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929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692400" cy="9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3792600" y="-360"/>
            <a:ext cx="290016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-360" y="9470520"/>
            <a:ext cx="290052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3792600" y="9470520"/>
            <a:ext cx="290016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576938-0FC0-4830-9709-D7E505786494}" type="slidenum"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11160" y="949320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2805E96-BB1C-4E6F-897C-8AEEAEAA6106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Img"/>
          </p:nvPr>
        </p:nvSpPr>
        <p:spPr>
          <a:xfrm>
            <a:off x="860040" y="753840"/>
            <a:ext cx="497196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Click to move the slide</a:t>
            </a: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861840" y="754200"/>
            <a:ext cx="496908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792600" y="7920"/>
            <a:ext cx="2900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92600" y="9491760"/>
            <a:ext cx="290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9491760"/>
            <a:ext cx="2900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7920"/>
            <a:ext cx="290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891720" y="4736880"/>
            <a:ext cx="4908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860400" y="754200"/>
            <a:ext cx="4971960" cy="3725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FEC-6843-489F-B377-E196AEEE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004-DFAA-4EA8-93FA-9687220C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08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8C9-946D-480F-ACE7-8B870E6A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4480" y="1447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5800" y="1447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4480" y="407484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5800" y="407484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96B-DE04-4E54-8400-6773A65C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2DC-B2E2-404F-83B5-469EF1C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FAA-3343-4B40-88FF-D18E3599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884-D93A-46E5-99EE-D2477496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DA0-99F9-4D2A-A1AB-37CF7CD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0773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903-BBCE-4480-B7EB-86944324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D88-BE0A-46DC-AA61-EE2818B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08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1F4-3D23-4C6E-81A7-8ED998E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F5C-269B-4D30-9341-DC6A36EE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BEA180-0336-4554-93BD-28445167E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360" y="0"/>
            <a:ext cx="9131760" cy="6845400"/>
            <a:chOff x="-360" y="0"/>
            <a:chExt cx="9131760" cy="684540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912636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-360" y="0"/>
              <a:ext cx="9131760" cy="6845400"/>
              <a:chOff x="-360" y="0"/>
              <a:chExt cx="9131760" cy="6845400"/>
            </a:xfrm>
          </p:grpSpPr>
          <p:sp>
            <p:nvSpPr>
              <p:cNvPr id="6" name=""/>
              <p:cNvSpPr/>
              <p:nvPr/>
            </p:nvSpPr>
            <p:spPr>
              <a:xfrm flipH="1">
                <a:off x="0" y="0"/>
                <a:ext cx="209520" cy="209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0"/>
                <a:ext cx="666720" cy="666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0"/>
                <a:ext cx="1143000" cy="1143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0" y="0"/>
                <a:ext cx="1657440" cy="1657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60" y="0"/>
                <a:ext cx="2171880" cy="2171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60" y="0"/>
                <a:ext cx="2724120" cy="27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60" y="0"/>
                <a:ext cx="3257640" cy="3257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0" y="0"/>
                <a:ext cx="3790800" cy="379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0" y="0"/>
                <a:ext cx="4324320" cy="432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0" y="0"/>
                <a:ext cx="4896000" cy="4896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0" y="0"/>
                <a:ext cx="5448240" cy="544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0" y="0"/>
                <a:ext cx="5981760" cy="5981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-360" y="19080"/>
                <a:ext cx="6496200" cy="649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84320" y="0"/>
                <a:ext cx="684504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67896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115524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166968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219816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2724120" y="438120"/>
                <a:ext cx="6407280" cy="640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3238200" y="952560"/>
                <a:ext cx="5892840" cy="5892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3753000" y="1467000"/>
                <a:ext cx="5378400" cy="537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4285800" y="2000160"/>
                <a:ext cx="4845240" cy="4845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4843440" y="2557440"/>
                <a:ext cx="4278240" cy="427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>
                <a:off x="5391000" y="3105000"/>
                <a:ext cx="3740400" cy="3740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5924520" y="3638520"/>
                <a:ext cx="3206880" cy="3206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H="1">
                <a:off x="6458040" y="4172040"/>
                <a:ext cx="2673360" cy="267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6972120" y="4686480"/>
                <a:ext cx="2158920" cy="215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H="1">
                <a:off x="7505640" y="5219640"/>
                <a:ext cx="1625760" cy="162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7981560" y="5695920"/>
                <a:ext cx="1149480" cy="1149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flipH="1">
                <a:off x="8476920" y="6191280"/>
                <a:ext cx="654120" cy="65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flipH="1">
                <a:off x="8934120" y="6648480"/>
                <a:ext cx="196920" cy="196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" name="PlaceHolder 4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536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572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30360" indent="-16992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84320" indent="-17136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84320" indent="-17136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84320" indent="-17136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6320" y="64152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ECFC8B6-0747-4DDD-9706-F82A5EFC7D8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entury Schoolbook"/>
              </a:rPr>
              <a:t>An Overview of GEMPACK</a:t>
            </a:r>
            <a:endParaRPr b="1" lang="en-US" sz="4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7" name=""/>
          <p:cNvSpPr/>
          <p:nvPr/>
        </p:nvSpPr>
        <p:spPr>
          <a:xfrm>
            <a:off x="669960" y="354168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repared by Jill Harrison and Ken Pea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For use at the Practical GE Modelling Cours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June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One Equation</a:t>
            </a: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from</a:t>
            </a: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SJLN.TAB</a:t>
            </a:r>
            <a:endParaRPr b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44760" y="2071800"/>
          <a:ext cx="615132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2071800"/>
                    <a:ext cx="61513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341440" y="1515960"/>
            <a:ext cx="346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25440" y="741240"/>
          <a:ext cx="754056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741240"/>
                    <a:ext cx="754056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30320" y="1041480"/>
          <a:ext cx="526428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041480"/>
                    <a:ext cx="526428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wo GEMPACK Programs</a:t>
            </a:r>
            <a:endParaRPr b="1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1400" y="1324080"/>
          <a:ext cx="7170480" cy="48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1324080"/>
                    <a:ext cx="717048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895480"/>
            <a:ext cx="198108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1371600"/>
            <a:ext cx="198108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048120"/>
            <a:ext cx="19814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64360" y="1631880"/>
            <a:ext cx="209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GEMS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5440" y="1630440"/>
            <a:ext cx="8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08280" y="3306600"/>
            <a:ext cx="204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GEM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8080" y="3156120"/>
            <a:ext cx="191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T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362320" y="1981080"/>
            <a:ext cx="1295280" cy="990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981080"/>
            <a:ext cx="1067040" cy="1143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6120" y="1460520"/>
            <a:ext cx="2108160" cy="50796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198108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2920" y="1577880"/>
            <a:ext cx="199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O Inpu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46520" y="3137040"/>
            <a:ext cx="1955880" cy="111744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69640" y="3252960"/>
            <a:ext cx="1696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file(s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and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419720" y="22860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75520" y="5041800"/>
            <a:ext cx="1346040" cy="8128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98280" y="5157720"/>
            <a:ext cx="113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MP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962520"/>
            <a:ext cx="304920" cy="1066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5800" y="28735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05320" y="13492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46720" y="302580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62720" y="1142640"/>
            <a:ext cx="1066680" cy="304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480"/>
            <a:ext cx="19814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9144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un View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06440" y="56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52280"/>
            <a:ext cx="8076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08400" y="1733400"/>
            <a:ext cx="882720" cy="11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333760" y="1733400"/>
            <a:ext cx="1143000" cy="1238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97200" y="3494160"/>
            <a:ext cx="96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7080" y="3441600"/>
            <a:ext cx="128520" cy="104760"/>
          </a:xfrm>
          <a:custGeom>
            <a:avLst/>
            <a:gdLst/>
            <a:ahLst/>
            <a:rect l="l" t="t" r="r" b="b"/>
            <a:pathLst>
              <a:path w="81" h="66">
                <a:moveTo>
                  <a:pt x="0" y="65"/>
                </a:moveTo>
                <a:lnTo>
                  <a:pt x="80" y="33"/>
                </a:lnTo>
                <a:lnTo>
                  <a:pt x="0" y="0"/>
                </a:lnTo>
                <a:lnTo>
                  <a:pt x="80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3494160"/>
            <a:ext cx="770040" cy="11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64240" y="3441600"/>
            <a:ext cx="129960" cy="104760"/>
          </a:xfrm>
          <a:custGeom>
            <a:avLst/>
            <a:gdLst/>
            <a:ahLst/>
            <a:rect l="l" t="t" r="r" b="b"/>
            <a:pathLst>
              <a:path w="82" h="66">
                <a:moveTo>
                  <a:pt x="81" y="0"/>
                </a:moveTo>
                <a:lnTo>
                  <a:pt x="0" y="33"/>
                </a:lnTo>
                <a:lnTo>
                  <a:pt x="81" y="65"/>
                </a:lnTo>
                <a:lnTo>
                  <a:pt x="0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955960" y="4190760"/>
            <a:ext cx="1158840" cy="1222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09720" y="4267080"/>
            <a:ext cx="746280" cy="1146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2560" y="5419800"/>
            <a:ext cx="1738440" cy="938160"/>
          </a:xfrm>
          <a:prstGeom prst="roundRect">
            <a:avLst>
              <a:gd name="adj" fmla="val 271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68280" y="550692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0320" y="5830920"/>
            <a:ext cx="14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ck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10080" y="2700360"/>
            <a:ext cx="2251080" cy="171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75400" y="3111480"/>
            <a:ext cx="174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00e4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99440" y="358632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00e4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03400" y="5419800"/>
            <a:ext cx="2028960" cy="974520"/>
          </a:xfrm>
          <a:prstGeom prst="roundRect">
            <a:avLst>
              <a:gd name="adj" fmla="val 271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14280" y="5506920"/>
            <a:ext cx="167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ile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3920" y="5830920"/>
            <a:ext cx="181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utpu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43800" y="3019320"/>
            <a:ext cx="1736640" cy="938160"/>
          </a:xfrm>
          <a:prstGeom prst="roundRect">
            <a:avLst>
              <a:gd name="adj" fmla="val 271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47720" y="3106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24520" y="343044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3019320"/>
            <a:ext cx="1738440" cy="938160"/>
          </a:xfrm>
          <a:prstGeom prst="roundRect">
            <a:avLst>
              <a:gd name="adj" fmla="val 271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2680" y="29829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9120" y="330516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25440" y="363060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2760" y="779400"/>
            <a:ext cx="1738440" cy="938160"/>
          </a:xfrm>
          <a:prstGeom prst="roundRect">
            <a:avLst>
              <a:gd name="adj" fmla="val 271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0800" y="838080"/>
            <a:ext cx="109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22360" y="779400"/>
            <a:ext cx="1738440" cy="938160"/>
          </a:xfrm>
          <a:prstGeom prst="roundRect">
            <a:avLst>
              <a:gd name="adj" fmla="val 271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7600" y="866880"/>
            <a:ext cx="125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3900" spc="-1" strike="noStrike">
                <a:solidFill>
                  <a:srgbClr val="7b00e4"/>
                </a:solidFill>
                <a:latin typeface="Arial"/>
              </a:rPr>
              <a:t>! Command file sjlnlb.cmf</a:t>
            </a:r>
            <a:br>
              <a:rPr sz="3900"/>
            </a:br>
            <a:endParaRPr b="1" lang="en-US" sz="39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40" y="1523880"/>
            <a:ext cx="8110440" cy="48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auxiliary files = sjln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file iodata= sj.dat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updated file iodata = sjlnlb.upd ;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method = Euler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steps= 1  2  4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extrapolation acc file = yes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" y="492120"/>
            <a:ext cx="7135560" cy="60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solution file = sjlnlb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exogenous p_xfac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rest endogenous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shock p_xfac (“labor”)= 10 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verbal description =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10 per cent increase in labor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900" spc="-1" strike="noStrike">
                <a:solidFill>
                  <a:srgbClr val="ffffff"/>
                </a:solidFill>
                <a:latin typeface="Arial"/>
              </a:rPr>
              <a:t>supply, capital fixed;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Century Schoolbook"/>
              </a:rPr>
              <a:t>Euler’s Method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18" name=""/>
          <p:cNvSpPr/>
          <p:nvPr/>
        </p:nvSpPr>
        <p:spPr>
          <a:xfrm>
            <a:off x="2145960" y="2224080"/>
            <a:ext cx="491724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G(X,Y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X + G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dY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Y = - G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/ G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dX = H(X,Y) d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Y = Y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+ H(X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) d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Multi-step solution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17640" y="1447920"/>
          <a:ext cx="5500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1447920"/>
                    <a:ext cx="5500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History of GEMPACK</a:t>
            </a: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he Impact Project started in 1975 as part of the Industries Assistance Commission (now Productivity Commission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he aim of the Impact Project was to produce general tools of use to all economists. These include the ORANI model and GEMPACK softwa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GEMPACK development began in 1984. The current developers of GEMPACK are Jill Harrison, Mark Horridge and Ken Pears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316501"/>
                </a:solidFill>
                <a:latin typeface="Arial"/>
              </a:rPr>
              <a:t>Extrapolation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6400" y="1044720"/>
          <a:ext cx="842832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044720"/>
                    <a:ext cx="842832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Updates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3000"/>
          </a:bodyPr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s Variable  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ntage change  p_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   X = p_X 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(new) = X(old) * (1 + p_X/1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  D  =  p_X * p_Y 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(new) = X(old)*(1 + (p_X +p_Y)/1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Different Versions</a:t>
            </a: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0000"/>
          </a:bodyPr>
          <a:p>
            <a:pPr marL="254160" indent="-25416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 code ve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2026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tran compi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2026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 size limited only by mem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4160" indent="-25416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cutable Image ve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2026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uild and modify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2026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size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2026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Fortran compi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4160" indent="-25416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nstration ve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2026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uild and modify small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2026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entially f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Machines</a:t>
            </a: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C Windows (Pentiu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Lahey  LF90 (F77L-EM/32, LF95 so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Unix - Sun, DEC, RS-6000, HP9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VMS - VAX or ALPH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bout 95% use PCs, rest Unix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Windows  Programs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ViewHAR - viewing data 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ViewSOL - viewing Solution 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WinGEM - Windows GEMPACK sh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unGEM  - running model simul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ABmate - editing TABLO Input 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nalyseGE - analysing sim results (new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14320" y="1471680"/>
          <a:ext cx="764712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71680"/>
                    <a:ext cx="764712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438e00"/>
                </a:solidFill>
                <a:latin typeface="Arial"/>
              </a:rPr>
              <a:t>CONDENSATION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14320" y="1471680"/>
          <a:ext cx="764712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71680"/>
                    <a:ext cx="764712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438e00"/>
                </a:solidFill>
                <a:latin typeface="Arial"/>
              </a:rPr>
              <a:t>OMISSION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814320" y="1471680"/>
          <a:ext cx="764712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71680"/>
                    <a:ext cx="764712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438e00"/>
                </a:solidFill>
                <a:latin typeface="Arial"/>
              </a:rPr>
              <a:t>OMISSION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14320" y="1471680"/>
          <a:ext cx="764712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71680"/>
                    <a:ext cx="764712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438e00"/>
                </a:solidFill>
                <a:latin typeface="Arial"/>
              </a:rPr>
              <a:t>SUBSTITUTION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entury Schoolbook"/>
              </a:rPr>
              <a:t>GEMPACK Software</a:t>
            </a:r>
            <a:endParaRPr b="1" lang="en-US" sz="4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 purpose package for GE models, not model specif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modellers to concentrate on the economics  of their models instead of computing 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s to  make modellers more produ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 models for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14320" y="1471680"/>
          <a:ext cx="764712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71680"/>
                    <a:ext cx="764712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438e00"/>
                </a:solidFill>
                <a:latin typeface="Arial"/>
              </a:rPr>
              <a:t>SUBSTITUTION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316501"/>
                </a:solidFill>
                <a:latin typeface="Century Schoolbook"/>
              </a:rPr>
              <a:t>CONDENSATION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condensation ORANIG ha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,348 variables and 45952 equ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ndensation ORANIG h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989 variables and 1255 equ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4400" spc="-1" strike="noStrike">
                <a:solidFill>
                  <a:srgbClr val="00b7a5"/>
                </a:solidFill>
                <a:latin typeface="Century Schoolbook"/>
              </a:rPr>
              <a:t>Intertemporal Equation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 ( t + 1 ) = K ( t ) . D + I ( t 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lnSpc>
                <a:spcPct val="110000"/>
              </a:lnSpc>
              <a:spcBef>
                <a:spcPts val="2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(t) capital at time 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depreciation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(t) Investment during period 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GEMPACK Utility Programs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HAR   Modify dat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Create new data 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HAR   See your data (spreadsheet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See post-simulation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LTOHT   Result repo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895480"/>
            <a:ext cx="213372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371600"/>
            <a:ext cx="22860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3048120"/>
            <a:ext cx="19814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65440" y="1631880"/>
            <a:ext cx="22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GEMS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65440" y="1630440"/>
            <a:ext cx="8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08280" y="3306600"/>
            <a:ext cx="204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GEM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8080" y="3156120"/>
            <a:ext cx="191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T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362320" y="1981080"/>
            <a:ext cx="1295280" cy="990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2133720"/>
            <a:ext cx="990720" cy="99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6120" y="1155600"/>
            <a:ext cx="1574640" cy="104148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440" y="1297080"/>
            <a:ext cx="22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46520" y="2984400"/>
            <a:ext cx="1803240" cy="81288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69280" y="3186000"/>
            <a:ext cx="174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ile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4813200"/>
            <a:ext cx="1879560" cy="96516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97560" y="4937040"/>
            <a:ext cx="140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M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85800" y="28735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05320" y="13492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47080" y="30258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42000" y="698400"/>
            <a:ext cx="1803600" cy="88920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66200" y="747720"/>
            <a:ext cx="167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680" y="1143000"/>
            <a:ext cx="99072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2209680"/>
            <a:ext cx="30456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648320" y="220932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4038480"/>
            <a:ext cx="304920" cy="838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MSIM Method</a:t>
            </a:r>
            <a:endParaRPr b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2438280"/>
            <a:ext cx="198108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2590920"/>
            <a:ext cx="19814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4114800"/>
            <a:ext cx="19814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3962520"/>
            <a:ext cx="2209680" cy="14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08280" y="2851200"/>
            <a:ext cx="204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GEM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56160" y="4146480"/>
            <a:ext cx="201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TABLO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27880" y="42973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8080" y="2698920"/>
            <a:ext cx="191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T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3352680"/>
            <a:ext cx="152640" cy="762120"/>
          </a:xfrm>
          <a:prstGeom prst="line">
            <a:avLst/>
          </a:prstGeom>
          <a:ln w="7632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4572000"/>
            <a:ext cx="1371600" cy="0"/>
          </a:xfrm>
          <a:prstGeom prst="line">
            <a:avLst/>
          </a:prstGeom>
          <a:ln w="7632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172200" y="3428640"/>
            <a:ext cx="762120" cy="685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6120" y="1003320"/>
            <a:ext cx="2565360" cy="50796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152388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3640" y="1052640"/>
            <a:ext cx="259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O Input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46520" y="2679840"/>
            <a:ext cx="1574640" cy="50796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70720" y="272880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3200400"/>
            <a:ext cx="45720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75520" y="4584600"/>
            <a:ext cx="1574640" cy="81288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97560" y="4632480"/>
            <a:ext cx="140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M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67480" y="3505320"/>
            <a:ext cx="304920" cy="1066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85800" y="24163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47080" y="25686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90360" y="4091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18280" y="39387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84600" y="1460520"/>
            <a:ext cx="1803600" cy="812880"/>
          </a:xfrm>
          <a:prstGeom prst="rect">
            <a:avLst/>
          </a:prstGeom>
          <a:solidFill>
            <a:srgbClr val="00b7a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08440" y="1509840"/>
            <a:ext cx="18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2286000"/>
            <a:ext cx="0" cy="1676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O-generated Program</a:t>
            </a:r>
            <a:endParaRPr b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Features of GEMPACK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lgebraic condensation of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Levels or linearized equations or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BO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everal approximate solutions very cheap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asy to modify models and clos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Comparative Static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00320" y="1295280"/>
          <a:ext cx="47340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1295280"/>
                    <a:ext cx="4734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Forecast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013120" y="1371600"/>
          <a:ext cx="5109840" cy="45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1371600"/>
                    <a:ext cx="510984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Types of Models</a:t>
            </a: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6000"/>
          </a:bodyPr>
          <a:p>
            <a:pPr marL="271080" indent="-27108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ingle country models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ustralia,Taiwan,South Africa,Thailand (et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080" indent="-27108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ulti-regional models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(a) Trade models of the world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  GTAP, SALTER, Michigan Trade model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(b) Models of single country and regions in it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  QGEM (Queensland + ROA), MMRF(stat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080" indent="-27108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ntertemporal models (forward looking)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ORANI (Malakellis), Global meat market (CIE),  OLG model (Wendn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entury Schoolbook"/>
              </a:rPr>
              <a:t>Dynamic</a:t>
            </a:r>
            <a:endParaRPr b="1" lang="en-US" sz="54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47680" y="1204920"/>
          <a:ext cx="68389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1204920"/>
                    <a:ext cx="68389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 one (All,i,C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(i) =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6(i)*y(i) + z(i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 two (All,k,C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5(k)*(</a:t>
            </a: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x(k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y(k)) = 0  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5(k)*((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6(k)*y(k) + z(k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+ y(k))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88920" y="138240"/>
            <a:ext cx="47203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38e00"/>
                </a:solidFill>
                <a:latin typeface="Arial"/>
              </a:rPr>
              <a:t>CONDENS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438e00"/>
                </a:solidFill>
                <a:latin typeface="Arial"/>
              </a:rPr>
              <a:t>using substitutio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mplementation of a Model</a:t>
            </a:r>
            <a:endParaRPr b="1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down equations in algebraic fo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 data for initial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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 TABLO Input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AU" sz="2800" spc="-1" strike="noStrike">
                <a:solidFill>
                  <a:srgbClr val="7b00e4"/>
                </a:solidFill>
                <a:latin typeface="Arial"/>
              </a:rPr>
              <a:t>Input-output Data Base for Stylized Johansen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143000"/>
            <a:ext cx="8001000" cy="53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          Househ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    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dit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COMIN(i,j)       DVHOUS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       2.0          2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       6.0          4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               DVFACIN(f,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0       3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0       1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TABLO Input file</a:t>
            </a:r>
            <a:endParaRPr b="1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08080" y="993600"/>
          <a:ext cx="691344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993600"/>
                    <a:ext cx="69134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LINEARIZATION </a:t>
            </a:r>
            <a:endParaRPr b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6" name=""/>
          <p:cNvSpPr/>
          <p:nvPr/>
        </p:nvSpPr>
        <p:spPr>
          <a:xfrm>
            <a:off x="1044360" y="922320"/>
            <a:ext cx="71665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_X= ordinary change        p_X=percentag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_X=(100 / X) * c_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Product</a:t>
            </a:r>
            <a:r>
              <a:rPr b="1" lang="en-US" sz="2400" spc="-1" strike="noStrike">
                <a:solidFill>
                  <a:srgbClr val="7b00e4"/>
                </a:solidFill>
                <a:latin typeface="Arial"/>
              </a:rPr>
              <a:t>: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X *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_D = p_X + p_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_D=Y*c_X + X*c_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LINEARIZATION </a:t>
            </a:r>
            <a:endParaRPr b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0" name=""/>
          <p:cNvSpPr/>
          <p:nvPr/>
        </p:nvSpPr>
        <p:spPr>
          <a:xfrm>
            <a:off x="2497320" y="922320"/>
            <a:ext cx="4266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00e4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7b00e4"/>
                </a:solidFill>
                <a:latin typeface="Arial"/>
              </a:rPr>
              <a:t>: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X = Y + Z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_X = c_Y   +   c_Z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_X = (X * p_X) / 1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* p_X = Y * p_Y + Z * p_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_X = SY * p_Y + SZ * p_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SY and SZ are sh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 = Y/(Y+Z)   SZ = Z/(Y+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6T12:27:58Z</dcterms:created>
  <dc:creator>Jill Harrison</dc:creator>
  <dc:description/>
  <dc:language>en-US</dc:language>
  <cp:lastModifiedBy>Ken Pearson</cp:lastModifiedBy>
  <cp:lastPrinted>1999-07-04T03:06:28Z</cp:lastPrinted>
  <dcterms:modified xsi:type="dcterms:W3CDTF">2000-06-15T01:42:46Z</dcterms:modified>
  <cp:revision>19757</cp:revision>
  <dc:subject/>
  <dc:title>GEMPACK Train</dc:title>
</cp:coreProperties>
</file>