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907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354-EB6C-45AC-8829-CA6A6DD9D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9F8-5592-44B3-AA29-1A61761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75A-A586-4A8A-AF51-F126C03C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AC8-70A8-46A4-AD2F-30BBF2CD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B6B4-24AA-4CE5-9DA2-8279F11B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70EB-5C94-41D9-A56E-186C281F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8863-D8BC-4880-8211-1FF66E6A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58E-DA0F-43ED-B9AC-0AEF7327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E8B7-A74C-497E-8B3D-CE1F1F66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4BA01-0A5B-40F5-B799-54CAF69A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1282-2DDF-4547-B90D-62CFAB5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576-AA91-4ABB-B212-061BCB38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941-311A-4CB2-BAE9-77D95C4E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BD2-0E97-4874-9F01-6996E27B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33E4-7DB4-4200-BE36-69F0048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FD13-5D42-4AF1-AF2E-E1DCC298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40552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76160" y="220968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4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40552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376160" y="5596920"/>
            <a:ext cx="18766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CFAE-6957-43D3-BA21-6A734E7C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B73-5168-4C5A-BC2F-BBE83D7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E3C-C1E7-41DE-80DC-FC8586E6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AEB-1C6B-42B8-B2E7-89AD831D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520" y="550800"/>
            <a:ext cx="5829480" cy="627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453F-37B0-4D7F-97D7-7FBF571E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6A2-702D-4C51-AFF7-E4E645C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1800" y="559692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E6FC-B650-4AC8-AB38-E94D78EB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1800" y="2209680"/>
            <a:ext cx="284472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520" y="5596920"/>
            <a:ext cx="5829480" cy="309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A1FD-AD78-47B1-B698-CAE9574D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257440" y="8805960"/>
            <a:ext cx="1428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7F60-A54A-456E-BE46-34688C2B2BAE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6200" y="55080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5680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685600" y="902448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25744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F82D-304B-4745-80B3-AD47161DF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ODEL INTERPRETATION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each point in the sequence a result is explained drawing o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lts explained earlie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s given in the database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derlying theory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must be consistent with the model’s equations and databa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should be simple enough to be understood by economists unfamiliar with the details of the model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DB3-BC3E-42FB-8344-B015FE6961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MACRO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 this will the point of first impac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, use a  “back-of-the-envelope” model  to explain changes i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ative factor pr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lative factor quantit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al GD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, use aspects of the macro closure to explain the outcomes for the major expenditure components of real GD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then follow for  the real exchange rate, GDP deflator, etc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984E-D5FB-4376-A006-08DC24E18A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vements in competitiveness, as indicated by changes in the real exchange rate, influence strongly the outcomes for the traded goods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the aggregate components of final demand influence strongly the outcomes for the non-traded goods industries, particularly in the services secto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7920" indent="-28008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88F0-CFA1-4519-8D6E-2E13E2490E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A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4520" y="2209680"/>
            <a:ext cx="5829480" cy="648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990-404B-4F25-9889-A6A8D052EC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IMMEDIATE IMPACT OF WAGE CUT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88920" y="2195640"/>
          <a:ext cx="4848480" cy="73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195640"/>
                    <a:ext cx="4848480" cy="73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C37-E2D3-4181-97D7-7D29461C2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62120" y="1676520"/>
          <a:ext cx="5487840" cy="72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5487840" cy="72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476-98F9-4CE4-B9EC-DC3E4B2AFB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USEFUL EQUATIONS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38080" y="1981080"/>
          <a:ext cx="5402520" cy="730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5402520" cy="730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941-3604-424F-A4F5-7A914F6D52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4520" y="550800"/>
            <a:ext cx="58294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entury Schoolbook"/>
              </a:rPr>
              <a:t>MACRO CLOSURE </a:t>
            </a:r>
            <a:endParaRPr b="1" i="1" lang="en-US" sz="2800" spc="-1" strike="noStrike">
              <a:solidFill>
                <a:srgbClr val="ffff00"/>
              </a:solidFill>
              <a:latin typeface="Century Schoolboo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01800" y="2895480"/>
          <a:ext cx="5056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895480"/>
                    <a:ext cx="505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59E-6900-4998-B993-4054890A0D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CoPS Monash University</cp:lastModifiedBy>
  <cp:lastPrinted>1998-11-24T06:19:30Z</cp:lastPrinted>
  <dcterms:modified xsi:type="dcterms:W3CDTF">1998-11-24T19:35:08Z</dcterms:modified>
  <cp:revision>352</cp:revision>
  <dc:subject/>
  <dc:title>ECONOMIC EFFECTS OF THE SUGAR TARIFF</dc:title>
</cp:coreProperties>
</file>