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907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0DF-9392-4779-9C4B-A65397A0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54680"/>
            <a:ext cx="922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2045-D1DB-44EC-BD97-51AE6A2B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240" y="19051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240" y="40546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34D6-6E6F-418F-9159-CBF64B89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5840" y="190512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63440" y="190512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5468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5840" y="405468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63440" y="4054680"/>
            <a:ext cx="2968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9CF-3A96-4B3B-A766-6434AB99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62C8-8438-4E41-BDA5-D9B2AE12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31F0-98E5-40F5-8421-D0ACBAEE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53240" y="19051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A52B-B027-49D5-A8A8-A4A1C75D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7D9-1DB1-4C28-B3B9-83EAD883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200" y="3805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9C9-C050-4A28-A04B-623C327A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53240" y="19051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69F-8F1E-49F1-8FD3-87F87A61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499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53240" y="19051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240" y="405468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D03-37A2-4F07-9E6C-83E975F2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240" y="1905120"/>
            <a:ext cx="4499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54680"/>
            <a:ext cx="9220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054B-AE6C-4BF9-BCF9-903F194C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546200" indent="-226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4" marL="1960920" indent="-226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5" marL="1960920" indent="-226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6" marL="1960920" indent="-22608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384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797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4200" y="60958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25C3-9186-4D74-89DE-63DBB44D5E2B}" type="slidenum">
              <a:rPr b="1" lang="en-GB" sz="2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00"/>
                </a:solidFill>
                <a:latin typeface="Arial"/>
              </a:rPr>
              <a:t>INTERPRETATION: </a:t>
            </a:r>
            <a:br>
              <a:rPr sz="3600"/>
            </a:br>
            <a:br>
              <a:rPr sz="3600"/>
            </a:br>
            <a:r>
              <a:rPr b="1" i="1" lang="en-GB" sz="3600" spc="-1" strike="noStrike">
                <a:solidFill>
                  <a:srgbClr val="ffff00"/>
                </a:solidFill>
                <a:latin typeface="Arial"/>
              </a:rPr>
              <a:t>REAL WAGE INCREASE</a:t>
            </a:r>
            <a:endParaRPr b="1" i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5ECC-A111-4061-A53F-56986C5E12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FUL BACK-OF-ENVELOPE MACRO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Multiplying the first equation through by the share of labour in industry j’s value added, multiplying the second equation through by the share of capital, and adding giv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943280" y="4135320"/>
                <a:ext cx="628776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abind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p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5DCC-95FD-4A8C-962A-7C13E452C0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FUL BACK-OF-ENVELOPE MACRO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ubtracting the second equation from the first give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the zero-pure profit conditions in industry production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00200" y="2590920"/>
                <a:ext cx="69930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abind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p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09480" y="5029200"/>
                <a:ext cx="865188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prim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4E76-7F75-4CBE-A2A8-C76A0DFE85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FUL BACK-OF-ENVELOPE MACRO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Which implie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181160" y="3143160"/>
                <a:ext cx="7792920" cy="18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prim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prim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D12-4C36-4BD6-B572-8FB03FB632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FUL BACK-OF-ENVELOPE MACRO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dustry-level equations derived above suggest three macro-level relationship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A) Change in real GDP at factor cost = change in employment plus change in capital plus cost savings from technological progres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60360" y="4314960"/>
                <a:ext cx="9070920" cy="18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DPREA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C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dpreal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c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M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URS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m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ur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/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/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D4D7-ACBF-4796-82A3-1FABFDB254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FUL BACK-OF-ENVELOPE MACRO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B) Percentage change in the ratio of primary factors (L/K) = percentage change in the ratio primary factor prices (PL/PK) multiplied by minus the capital/labour substitution elasticit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380960" y="3860640"/>
                <a:ext cx="72964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m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urs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/>
                        </m:sSub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  <m:r>
                          <m:t xml:space="preserve">×</m:t>
                        </m:r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e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221-DE30-4E18-BC4F-AB1301E874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FUL BACK-OF-ENVELOPE MACRO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C) Percentage change in the real price of labour (marginal product of labour) = the percentage change in the real price of capital (marginal product of capital) multiplied by minus the capital/labour rati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876240" y="4248000"/>
                <a:ext cx="840276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a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i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e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i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e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66A-94E7-483D-94B9-F185DA17E9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FUL BACK-OF-ENVELOPE MACRO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wo more useful Back-of-envelope macro equations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D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Very usefull for short-run analysi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371600" y="2971800"/>
                <a:ext cx="7467480" cy="24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A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I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A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E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XI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I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XIGNE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IGN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XIGDP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IGD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I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E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663-74CE-4054-A767-9BE21B49AD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FUL BACK-OF-ENVELOPE MACRO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E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Very useful for long-run analysis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19320" y="2438280"/>
                <a:ext cx="7831080" cy="24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A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I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E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A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E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XI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I</m:t>
                            </m:r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XIGNE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IGN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XIGDP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IGDP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I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VE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B9E-E41B-4E09-957D-44F0309D94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FUL BACK-OF-ENVELOPE MACRO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 short-run, real wage (P1LAB_AVE/XI3) fixed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 long-run, rate of return (P1CAP_AVE/XI2) fixe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 general, XI2 and XI3 typically move with PGN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XIGNE/XIGDP is a function of the terms of trade onl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XIGDP/P1PRIM_AVE is a function of rates of indirect tax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85A-8EAF-4D81-95EF-5AEECEEE30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GENERAL STRATEGY FOR INTERPRETING MACRO RESULTS: SUMMARY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937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rst, find a way to enter the loo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n use aspects of the macro closure and models of a model explain the outcomes for the major components of real GDP from the income side and from the expenditure sid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quations (A) to (E) are a very useful model of a model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short-run, explain changes in the producer real wage rate using (D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 long-run, explain change in the producer real cost of capital using (E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 follow through to employment, capital and real GDP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5F81-B3AE-48C9-B667-3B02ECE618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BASIC TASKS IN CGE ANALYSI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92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oretical derivation of mode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rmal theor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nearisa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libr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tabase construc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aluation of coefficient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lv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os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rpretatio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6112-6728-40A7-BEE4-8546B2DEB0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GENERAL STRATEGY FOR INTERPRETING INDUSTRY RESULT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067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rst, try to explain the results for industry outputs drawing on the macro results and input-output linkag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vements in competitiveness, as indicated by changes in the real exchange rate, influence strongly outcomes for traded goods industri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anges in the aggregate components of final demand influence strongly outcomes for non-traded goods industries, particularly servic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put-output linkages are important for industries like beef cattle and non-metallic product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694A-740B-429F-B34D-12842D4C99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GENERAL STRATEGY FOR INTERPRETING INDUSTRY RESULT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ving explained results for industry output, then move to employment, investment, etc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anges in output and relative factor prices are critical drivers of  the changes in most other industry variables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70D-B6F6-478F-8395-429D866126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CRO CLOSURE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- LONG-RUN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189240" y="1998720"/>
          <a:ext cx="3479760" cy="37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240" y="1998720"/>
                    <a:ext cx="3479760" cy="37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4E5-8233-412A-9EA0-EB6729D06A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NTERPRETATION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plaining in a logical sequence the projections from a model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t each point in the sequence a result is explained drawing only on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sults explained earlier and/o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alues given in the database and/or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51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nderlying theory. 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lanations should be simple enough to be understood by economists not familiar with the details of the model. 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EE14-019B-465A-AA85-6FA8398DE1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NTERPRETATION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92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check on the model’s implementa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hance credibilit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conomic insight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or strategi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ariable/equation trac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ppealing to different models (whackery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AEE4-50E2-433F-A8A9-B510A0D869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NTERPRETATION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92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eys to a good strateg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derstand the clos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dentify first-round impacts of the shock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simplified models of  the mode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9599-7B7A-424C-B896-E2A694D259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GENERAL STRATEGY FOR INTERPRETING MACRO RESULT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rst, find a way to enter the loo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enerally this will the point of first impact of the shock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n use aspects of the macro closure to explain the outcomes for the major components of real GDP from the income side and from the expenditure sid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c0128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lanations follow for  the real exchange rate, GDP deflator, the terms of trade, the trade balance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644A-D9C9-44D3-ABC1-6A13750599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MMEDIATE IMPACT OF WAGE INCREASE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9720" y="1519200"/>
          <a:ext cx="3360600" cy="50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9720" y="1519200"/>
                    <a:ext cx="3360600" cy="50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9CAB-DB73-4F76-A3B1-6C260F6A48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ACRO CLOSURE 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- SHORT-RUN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057400" y="1752480"/>
          <a:ext cx="5921280" cy="448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592128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32BD-70DB-46F3-ABBA-119DD5C56C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20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USEFUL BACK-OF-ENVELOPE MACRO EQUATIONS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9220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factor demand equations (ignoring land and allowing only for labour-saving technological change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54120" y="3411360"/>
                <a:ext cx="886284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abind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798480" y="5124600"/>
                <a:ext cx="872820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p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[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lab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CE9-D3EE-449F-B796-7CCCCA5B4B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05:58:52Z</dcterms:created>
  <dc:creator>Philip Adams</dc:creator>
  <dc:description/>
  <dc:language>en-US</dc:language>
  <cp:lastModifiedBy>Monash University</cp:lastModifiedBy>
  <cp:lastPrinted>2001-06-20T22:28:04Z</cp:lastPrinted>
  <dcterms:modified xsi:type="dcterms:W3CDTF">2001-11-19T22:44:49Z</dcterms:modified>
  <cp:revision>583</cp:revision>
  <dc:subject/>
  <dc:title>ECONOMIC EFFECTS OF THE SUGAR TARIFF</dc:title>
</cp:coreProperties>
</file>