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906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42964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16560" y="23176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72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42964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516560" y="5318280"/>
            <a:ext cx="198720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9492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53182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317680"/>
            <a:ext cx="301176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5318280"/>
            <a:ext cx="617184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9492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317680"/>
            <a:ext cx="6171840" cy="57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33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BASIC TASKS IN CG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488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eoretical der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alib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atabas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valuation of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onvert theory into linear, change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build vector of exogenous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GENERAL STRATEGY FOR INTERPRETING INDUSTR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3488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aving explained results for industry output, then move to employment, investmen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anges in output and relative factor prices are critical drivers of  the changes in most other industry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MACRO CLOSUR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- LONG-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2887560"/>
            <a:ext cx="502596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MODEL 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3488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xplaining in a logical sequence the projections from a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t each point in the sequence a result is explained drawing only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results explained earlier and/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values given in the database and/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underlying the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xplanations must be consistent with the model’s equations an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xplanations should be simple enough to be understood by economists unfamiliar with the details of the mod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INTERPRE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34880" y="2209680"/>
            <a:ext cx="5829480" cy="65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nhance usefulness of  the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red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conomic insigh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oor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variable/equation tr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ppealing to different models (whack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nything g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Keys to a goo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understand the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tart the sequence at the point of first-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use simplified models of  the mode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MACRO CLOSUR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- SHORT-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69840" y="3033720"/>
            <a:ext cx="503856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IMMEDIATE IMPACT OF WAGE 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88920" y="2195640"/>
            <a:ext cx="4848120" cy="73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USEFU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41440" y="1725480"/>
            <a:ext cx="5745240" cy="794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USEFU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440" y="2398680"/>
            <a:ext cx="574524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GENERAL STRATEGY FOR INTERPRETING MACRO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488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irst, find a way to enter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generally this will the point of first impact of the sho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econd, use the “triad” to explain chang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lative facto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lative factor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real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Third, use aspects of the macro closure to explain the outcomes for the major expenditure components of real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explanations then follow for  the real exchange rate, GDP deflato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34880" y="550800"/>
            <a:ext cx="582948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  <a:ea typeface="Century Schoolbook"/>
              </a:rPr>
              <a:t>GENERAL STRATEGY FOR INTERPRETING INDUSTR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3488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First, try to explain the results for industry outputs drawing on the macro results and input-output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movements in competitiveness, as indicated by changes in the real exchange rate, influence strongly the outcomes for the traded goods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hanges in the aggregate components of final demand influence strongly the outcomes for the non-traded goods industries, particularly in the services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nput-output linkages are important for industries like beef cattle and non-metallic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hilip Adams</dc:creator>
  <dc:description/>
  <dc:language>en-US</dc:language>
  <cp:lastModifiedBy>Philip Adams</cp:lastModifiedBy>
  <cp:revision>0</cp:revision>
  <dc:subject/>
  <dc:title>ECONOMIC EFFECTS OF THE SUGAR TARIFF</dc:title>
</cp:coreProperties>
</file>