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907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844-E0E2-4D76-945B-52223067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5C6A-B683-4592-85AA-868961DE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D762-335C-4F55-9947-1F00AF2B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05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7616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4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05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7616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562-0A85-4074-87E4-8485DED9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1D73-DD30-4E72-A04E-563F509D7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94EC-A99F-44B2-BD4A-93A811BD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8910-20CA-4E79-8B80-74FBAF2A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0EF2-34EF-4527-A17E-B3325624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F7D5-2395-4940-BE1B-C9566350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34520" y="550800"/>
            <a:ext cx="5829480" cy="62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9E09-29E9-4484-B8FF-311CB24F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4C2A-6B29-4473-A375-E7FEBF4C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0BC-A1EF-47B5-9531-93190B4C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109C-01B3-47DD-B66D-EF6D5E46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91FD-01F1-485B-81D5-2E911BE5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1BCF-2818-4F8E-9625-91F9A95C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2708-82F3-43B9-8032-F51E0147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05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7616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4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05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37616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12EE-8052-44D9-BBAB-79EE5E59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9D7-B18E-4C01-AF2C-BC002C5A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BFB-77A7-4950-8DAB-A0CC71AC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815-18AB-4113-A493-CB6B869A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4520" y="550800"/>
            <a:ext cx="5829480" cy="62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FAB-920F-4A0D-BEEC-55B7FA09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D3F-CBEF-4084-A8C3-86905B8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6C6-2D07-409A-AD64-14A6665D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F6D-A7EF-4F4C-9464-322317CF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68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8560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57440" y="880596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68F6-400C-4CD4-AEA5-DF5C4AE8825B}" type="slidenum">
              <a:rPr b="1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6200" y="5508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568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68560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2574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5DA9-C515-4196-85DB-BFCA730A9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BASIC TASKS IN CGE ANALYSI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oretical derivation of mod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ibr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tabase construc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aluation of coefficien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lv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onvert theory into linear change equat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os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ild vector of exogenous chang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pret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5E9-3579-4EAE-BC38-97B6A87010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GENERAL STRATEGY FOR INTERPRETING INDUSTRY RESULT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ving explained results for industry output, then move to employment, investment, etc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s in output and relative factor prices are critical drivers of  the changes in most other industry variable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D25E-9475-43FA-9521-5818744425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MACRO CLOSUR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- LONG-RUN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00000" y="2887560"/>
          <a:ext cx="5025960" cy="54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887560"/>
                    <a:ext cx="5025960" cy="54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35C-2437-4422-8ABD-5DE82EB581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INTERPRETATION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laining in a logical sequence the projections from a model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 each point in the sequence a result is explained drawing only on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ults explained earlier and/o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ues given in the database and/o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derlying theory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should be simple enough to be understood by economists unfamiliar with the details of the model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AE72-7F32-4210-B31F-EE5979E9E4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INTERPRETATION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heck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hance credibilit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conomic insigh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or strateg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riable/equation trac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ealing to different models (whackery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ys to a good strate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derstand the clos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rt the sequence at the point of first-impac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simplified models of  the mode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30DF-567B-4431-82E1-F6E52D56FC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GENERAL STRATEGY FOR INTERPRETING MACRO RESULT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find a way to enter the loo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enerally this will the point of first impact of the shock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n use aspects of the macro closure to explain the outcomes for the major expenditure components of real GD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follow for  the real exchange rate, GDP deflator, relative factor prices, relative factor quantities, real GDP, etc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0E9-A5E4-4AEA-8711-2E3C30442D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IMMEDIATE IMPACT OF WAGE CUT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88920" y="2195640"/>
          <a:ext cx="4848480" cy="73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195640"/>
                    <a:ext cx="4848480" cy="73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9E05-3214-4E3E-A0D4-A4E04509EC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MACRO CLOSUR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- SHORT-RUN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69840" y="3033720"/>
          <a:ext cx="5038920" cy="54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3033720"/>
                    <a:ext cx="5038920" cy="54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35F-193E-465D-AF1F-5BCDEB962B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USEFUL EQUATION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5402160" cy="751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ECC-6236-4809-BE3D-3104713896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USEFUL EQUATION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5402160" cy="723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9F58-9F98-4A27-86DA-1DE33A4179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GENERAL STRATEGY FOR INTERPRETING INDUSTRY RESULT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try to explain the results for industry outputs drawing on the macro results and input-output linkag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vements in competitiveness, as indicated by changes in the real exchange rate, influence strongly the outcomes for the traded goods industr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s in the aggregate components of final demand influence strongly the outcomes for the non-traded goods industries, particularly in the services secto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put-output linkages are important for industries like beef cattle and non-metallic product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0359-6C93-4E28-BBD1-7896507113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05:58:52Z</dcterms:created>
  <dc:creator>Philip Adams</dc:creator>
  <dc:description/>
  <dc:language>en-US</dc:language>
  <cp:lastModifiedBy>CoPS Monash University</cp:lastModifiedBy>
  <cp:lastPrinted>1998-06-30T22:27:50Z</cp:lastPrinted>
  <dcterms:modified xsi:type="dcterms:W3CDTF">1999-10-31T21:37:50Z</dcterms:modified>
  <cp:revision>346</cp:revision>
  <dc:subject/>
  <dc:title>ECONOMIC EFFECTS OF THE SUGAR TARIFF</dc:title>
</cp:coreProperties>
</file>