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665B-5119-4085-99D3-FBB63740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7484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DACE-6953-4D59-B068-FE2891BC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44792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7484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3289-3135-4FC4-8EE4-1BC292B9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44792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44792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7484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7484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7484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DFB-6F23-4133-BD2C-A4DA7FF1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382-EF6A-429E-896D-4C37581F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E7F9-86EC-473A-AD67-DB365611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44792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89ED-38D1-4338-9AD0-13CE50F4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17D-5636-409C-A4B9-527FDF3A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076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137E-4442-4E3F-8196-97439963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44792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57E1-BFA7-497A-8CC9-7AE20CFA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44792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7484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9A80-4F39-4B96-B160-4D5D261D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44792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7484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3F5-317D-484D-BA32-6B5935D2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82374B-1DEC-4327-B659-2586B561B4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360" y="0"/>
            <a:ext cx="9131760" cy="6845400"/>
            <a:chOff x="-360" y="0"/>
            <a:chExt cx="9131760" cy="684540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9126360" cy="68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-360" y="0"/>
              <a:ext cx="9131760" cy="6845400"/>
              <a:chOff x="-360" y="0"/>
              <a:chExt cx="9131760" cy="6845400"/>
            </a:xfrm>
          </p:grpSpPr>
          <p:sp>
            <p:nvSpPr>
              <p:cNvPr id="6" name=""/>
              <p:cNvSpPr/>
              <p:nvPr/>
            </p:nvSpPr>
            <p:spPr>
              <a:xfrm flipH="1">
                <a:off x="0" y="0"/>
                <a:ext cx="209520" cy="209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0" y="0"/>
                <a:ext cx="666720" cy="666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-360" y="0"/>
                <a:ext cx="1143000" cy="1143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0" y="0"/>
                <a:ext cx="1657440" cy="1657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-360" y="0"/>
                <a:ext cx="2171880" cy="2171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-360" y="0"/>
                <a:ext cx="2724120" cy="2724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-360" y="0"/>
                <a:ext cx="3257640" cy="32576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0" y="0"/>
                <a:ext cx="3790800" cy="37908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0" y="0"/>
                <a:ext cx="4324320" cy="4324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0" y="0"/>
                <a:ext cx="4896000" cy="4896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0" y="0"/>
                <a:ext cx="5448240" cy="544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0" y="0"/>
                <a:ext cx="5981760" cy="5981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>
                <a:off x="-360" y="19080"/>
                <a:ext cx="6496200" cy="64962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184320" y="0"/>
                <a:ext cx="6845040" cy="684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678960" y="0"/>
                <a:ext cx="6845400" cy="684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flipH="1">
                <a:off x="1155240" y="0"/>
                <a:ext cx="6845400" cy="684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flipH="1">
                <a:off x="1669680" y="0"/>
                <a:ext cx="6845400" cy="684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>
                <a:off x="2198160" y="0"/>
                <a:ext cx="6845400" cy="6845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flipH="1">
                <a:off x="2724120" y="438120"/>
                <a:ext cx="6407280" cy="64072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>
                <a:off x="3238200" y="952560"/>
                <a:ext cx="5892840" cy="58928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flipH="1">
                <a:off x="3753000" y="1467000"/>
                <a:ext cx="5378400" cy="5378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flipH="1">
                <a:off x="4285800" y="2000160"/>
                <a:ext cx="4845240" cy="4845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H="1">
                <a:off x="4843080" y="2557440"/>
                <a:ext cx="4280040" cy="42782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>
                <a:off x="5391000" y="3105000"/>
                <a:ext cx="3740400" cy="37404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flipH="1">
                <a:off x="5924520" y="3638520"/>
                <a:ext cx="3206880" cy="32068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flipH="1">
                <a:off x="6458040" y="4172040"/>
                <a:ext cx="2673360" cy="2673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flipH="1">
                <a:off x="6972120" y="4686480"/>
                <a:ext cx="2158920" cy="2158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H="1">
                <a:off x="7505640" y="5219640"/>
                <a:ext cx="1625760" cy="16257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flipH="1">
                <a:off x="7981560" y="5695920"/>
                <a:ext cx="1149480" cy="114948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flipH="1">
                <a:off x="8476920" y="6191280"/>
                <a:ext cx="654120" cy="6541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flipH="1">
                <a:off x="8934120" y="6648480"/>
                <a:ext cx="196920" cy="1969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" name="PlaceHolder 4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</a:rPr>
              <a:t>Click to edit the title text format</a:t>
            </a: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5480" indent="-22536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16992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17640" indent="-17136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17640" indent="-171360">
              <a:lnSpc>
                <a:spcPct val="11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17640" indent="-171360">
              <a:lnSpc>
                <a:spcPct val="11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76320" y="64152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D869291E-2A43-4552-AEE9-18CD5F1EBEDC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8197920" y="196920"/>
            <a:ext cx="673200" cy="3682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Co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469680" y="2536920"/>
            <a:ext cx="28872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78CA-C518-4E05-9C69-F829ACF8B285}" type="slidenum">
              <a:rPr b="1" lang="en-US" sz="4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2680" y="6019920"/>
            <a:ext cx="1996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7128-3130-44CA-934A-7CDDC025BCCD}" type="slidenum">
              <a:rPr b="1" lang="en-US" sz="4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5943600"/>
            <a:ext cx="13716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D3C9-3FC7-4DC6-B5B6-B1C0EA314698}" type="datetime">
              <a:rPr b="1" lang="en-US" sz="2000" spc="-1" strike="noStrike">
                <a:solidFill>
                  <a:srgbClr val="ffffff"/>
                </a:solidFill>
                <a:latin typeface="Arial"/>
              </a:rPr>
              <a:t>07/28/26</a:t>
            </a:fld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fld id="{2BEE86B6-8F64-4A30-891C-9775210002C4}" type="datetime10">
              <a:rPr b="1" lang="en-US" sz="2000" spc="-1" strike="noStrike">
                <a:solidFill>
                  <a:srgbClr val="ffffff"/>
                </a:solidFill>
                <a:latin typeface="Arial"/>
              </a:rPr>
              <a:t>12:46</a:t>
            </a:fld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fld id="{CC11D550-18CC-4668-AF55-453FACA94EEA}" type="slidenum">
              <a:rPr b="1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99760" y="6148440"/>
            <a:ext cx="135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7B00-73D2-456A-8377-365FE04C9ED1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</a:rPr>
              <a:t>Regional Disaggregation in MONASH</a:t>
            </a: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NASH Regional Equation System (MRES) is based on the Orani Regional Equation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ES uses a 2-stage tops-down procedure to disaggregate Australia-wide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to the state/territory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to the finer level of Statistical divi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stage the regional projections add to results at the immediately higher level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</a:rPr>
              <a:t>Data Requirements</a:t>
            </a: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for disaggregation comes from ABS data at the 7-digit IO Commodity Classification (IOCC) level on the sales patterns of domestically-produced commodities and on their exposures to competition from im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ogether, flows of the 228 MONASH parent commodities (114 domestic and 114 imported) are   be disaggregated into flows of 1560 sub-commodities (780 domestic and 780 imported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</a:rPr>
              <a:t>Methodology</a:t>
            </a: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for example the MONASH parent commodity Clay produ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wo users, the construction industry and households, and that the growth rates in their use of clay products are 5% and 1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at Clay products has two subprodu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cks with 90% sold to construction, and 10% to househol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les with 50% sold to construction and 50% to househol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86000"/>
          </a:bodyPr>
          <a:p>
            <a:pPr marL="243000" indent="-2430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is stage best-guess forecasts for sales of domestic bricks and tiles 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19368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6 per cent (0.9*5 + 0.1*1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19368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0 per cent(0.5*5 + 0.5*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000" indent="-2430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is ignores forecasts for imports of the parent commod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000" indent="-2430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at imports of the parent, clay products, are projected to grow at 10 per c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19368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imports of bricks, but considerable imports of ti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000" indent="-2430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uld recognize that rapid growth in imports of the parent will effect output growth of domestic tiles but not of domestic brick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</a:rPr>
              <a:t>Treatment of imports</a:t>
            </a: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2600" indent="-282600" algn="ctr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a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366920" y="2286000"/>
                <a:ext cx="604188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31920" y="4853160"/>
                <a:ext cx="64818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9</m:t>
                        </m:r>
                      </m:sup>
                      <m:e>
                        <m:r>
                          <m:t xml:space="preserve">B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simplest version (where there are no imports of the parent commodity), the phi parameter is zer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case, each disaggregated demand moves by the same per cent as the parent dem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 % change in total demand for commodity (i_q,s) will vary from the percentage change in demand for the parent commodity (i,s) only if the distribution of sales of the disaggregated commodity differs from that of the par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there are imports of the parent commodity, thus we set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 algn="ctr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user j’s purchases of i_q are import intensive then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03280" y="1562040"/>
                <a:ext cx="7419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39760" y="2625840"/>
                <a:ext cx="85755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[</m:t>
                    </m:r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014640" y="5008680"/>
                <a:ext cx="2625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76000"/>
          </a:bodyPr>
          <a:p>
            <a:pPr marL="214560" indent="-21456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user j’s purchases of i_q are domestic intens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in general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(i_q,1,j) &lt; x(i,1,j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6240" indent="-17100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’s demand for i_q is relatively import-intensive and j’s demand for the imported parent is growing relatively quickl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6240" indent="-17100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’s demand for i_q is relatively domestic-intensive and j’s demand for the imported parent is growing relatively slowly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557440" y="1351080"/>
                <a:ext cx="2625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</a:rPr>
              <a:t>Data Requirements</a:t>
            </a: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s-down methodology uses a minimal amount of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s of each industry’s value added generated across reg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s that the economy-wide input-output coefficients relating to the usage of commodities apply at each regional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data are required on inter-state tra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</a:rPr>
              <a:t>1: States Disaggregation</a:t>
            </a: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94000"/>
          </a:bodyPr>
          <a:p>
            <a:pPr marL="265320" indent="-26532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step is to allocate each commodity to one of two groups, national and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onal commodities are traded extensively across state borders (currently 89 of the 11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1168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. agricultural and mining commodi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 commodities are those for which demand in each state is satisfied mainly from production in that state (account for about 60 per cent of GD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1168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. perishables and servi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320" indent="-26532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 is to determine growth rates for each indus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 fontScale="87000"/>
          </a:bodyPr>
          <a:p>
            <a:pPr marL="245520" indent="-24552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ational industries, growth rates set exogenously (from disaggregation point of vie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19584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to ensure that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ly we assume that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not always. For example, if ABARE tells us that copper mining in Tasmania is to grow slower than elsewhere, th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(copper, TAS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be set to less tha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(coppe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remain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(copper,r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ed to ensure the adding-up restriction hol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671920" y="2063880"/>
                <a:ext cx="40114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r</m:t>
                        </m:r>
                      </m:sub>
                      <m:sup/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760840" y="3408480"/>
                <a:ext cx="2523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 fontScale="87000"/>
          </a:bodyPr>
          <a:p>
            <a:pPr marL="245520" indent="-24552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local industries, production in state r is set equal to demand in state r (plus export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19584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ssumed that there is no inter-state trade in local commod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5520" indent="-24552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calculating state demand for local industry j, MRES takes accounts o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19584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mediate and investment demands by local industries and the parts of national industries located in the stat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19584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household demands (f(cr, q(r)-q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19584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demand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0760" indent="-19584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any margins usage if j produces a margins commod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</a:rPr>
              <a:t>2. Disagreggation to Divisions</a:t>
            </a: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2 disaggregates the state projections to 56 statistical divi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ES calculations in stage 2 have same structure as calculations in stage 1, except that rather than 1 disaggregation, there are 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SW stage 1 results are disaggregated to the 12 divisions in NS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VIC stage 1 results are disaggregated to the 11 divisions in V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in stage 1, in stage 2 each of MONASH’s commodities is classified to one of two categories: national-regional and local-regio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 of national regional commodities grow in line with the state-wide growth rates calculated in stage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 of local regional commodities is modeled as depending mainly on demand within the reg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llow for the possibility of some demand for local-region commodities outside the region of their p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eatment of inter-region (not intra-state) trade in local-region commodities starts with identifying whether region d in state r is a net inter-region importer or exporter of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net intra-state importer the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(i,d) = g(i,d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net intra-state exporter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(i,d) = etot(i,r(d)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Century Schoolbook"/>
              </a:rPr>
              <a:t>Commodity Disaggregation in MONASH</a:t>
            </a:r>
            <a:endParaRPr b="1" i="1" lang="en-US" sz="3200" spc="-1" strike="noStrike">
              <a:solidFill>
                <a:srgbClr val="fc0128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dity disaggregation facility in MONASH  is again a tops-down 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ions for output, export and imports for 780 commodi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10000"/>
              </a:lnSpc>
              <a:spcBef>
                <a:spcPts val="15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ions for sub-commodities are internally consistent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5360">
              <a:spcBef>
                <a:spcPts val="1199"/>
              </a:spcBef>
              <a:buClr>
                <a:srgbClr val="fc0128"/>
              </a:buClr>
              <a:buSzPct val="75000"/>
              <a:buFont typeface="Wingdings" charset="2"/>
              <a:buChar char=""/>
              <a:tabLst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e.. they add, with appropriate weights to the projections for their paren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entre of Policy Studies</dc:creator>
  <dc:description/>
  <dc:language>en-US</dc:language>
  <cp:lastModifiedBy>CoPS Monash University</cp:lastModifiedBy>
  <cp:lastPrinted>1998-12-01T00:05:48Z</cp:lastPrinted>
  <dcterms:modified xsi:type="dcterms:W3CDTF">1998-12-01T00:21:48Z</dcterms:modified>
  <cp:revision>25</cp:revision>
  <dc:subject/>
  <dc:title>No Slide Title</dc:title>
</cp:coreProperties>
</file>