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9E4-DC2A-4E79-A4E9-B099301B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922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767-3FC5-420B-8BC8-A95F1949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275-05F9-4B0A-847F-51C88FD0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5840" y="19051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3440" y="19051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5840" y="40546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3440" y="40546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577-3849-44FE-A06F-A30D5BEE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DBC-7D27-4D56-AF3D-2E4FF7EF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133-7316-42B3-B0A9-F40034AC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520-4F7C-471B-9017-3D768800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B6E-6E3F-4DC2-AC96-12224272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1DF-15BA-42B5-B860-53575046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CC83-8F50-4AE2-AD63-4450152A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0F7-80BF-4E8B-870F-959E40C2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922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BD5-00B2-4A65-9ACD-1F17C2D6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54620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96092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960920" indent="-226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960920" indent="-226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42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2947-0A5F-43EE-905D-9FA91ED80A63}" type="slidenum">
              <a:rPr b="1" lang="en-GB" sz="2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Arial"/>
              </a:rPr>
              <a:t>INTERPRETATION: 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ffff00"/>
                </a:solidFill>
                <a:latin typeface="Arial"/>
              </a:rPr>
              <a:t>REAL WAGE CUT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A96-26E3-4A51-97C9-A529A1C1A4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ultiplying the first equation through by the share of labour in industry i’s value added, multiplying the second equations through by the share of capital, and adding giv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030320" y="4465800"/>
                <a:ext cx="8115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8DA-6A12-4805-A16F-6E88AAA8D7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ubtracting the second equations from the first giv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the zero-pure profit conditions in industry product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343160" y="2743200"/>
                <a:ext cx="74484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27080" y="5105520"/>
                <a:ext cx="83851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i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p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4CE-C045-4625-AC1F-C61AF78375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hich impli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676520" y="3124080"/>
                <a:ext cx="68022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i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L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i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072E-6A93-40B2-8776-AE8C923A2B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hree industry-level equations derived above suggest three macro-level relationship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A) Change in real GDP at factor cost = change in employment plus change in capital plus cost savings from technological prog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28600" y="4648320"/>
                <a:ext cx="933624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I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i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plo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E94-AE9F-4F37-A706-DE68248804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B) Percentage change in the ratio of primary factors = percentage change in the ratio primary factor prices multiplied by minus the capital/labour substitution elasticit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80880" y="4191120"/>
                <a:ext cx="9298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mplo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[</m:t>
                    </m:r>
                    <m:r>
                      <m:t xml:space="preserve">p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1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1B03-B111-4633-B415-D0CE228383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C) Percentage change in the real price of labour (marginal product of labour) = the percentage change in the real price of capital (marginal product of capital) multiplied by minus the capital/labour rati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0960" y="4248000"/>
                <a:ext cx="739332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i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i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70E-F693-42B1-A67F-7487798934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wo more useful Back-of-envelope macro equation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D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Very useful for short-run analysi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50960" y="2743200"/>
                <a:ext cx="8442360" cy="24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A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A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×</m:t>
                            </m:r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NE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NE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DPEX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DPEX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2F5-40C0-48B8-A819-F5A2196633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Very useful for long-run analysi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95280" y="1981080"/>
                <a:ext cx="7145280" cy="24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A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A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NE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NE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DPEX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GDPEX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F2E-9446-41E2-9151-A9FC3E0521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short-run, real wage (P1LAB_I/P3TOT) fix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long-run, rate of return (P1CAP_I/P2TOT) fix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general, P2TOT ad P3TOT move with PG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0GNE/P0GDPEXP is a function of the terms of trade onl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P0GDPEXP/P1PRIM_I is a function of rates of indirect tax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FEA-D9BB-4BA4-8AE5-B61F3A6601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ENERAL STRATEGY FOR INTERPRETING MACRO RESULTS: SUMMARY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find a way to enter the loo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n use aspects of the macro closure and models of a model explain the outcomes for the major components of real GDP from the income side and from the expenditure s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tions (A) to (E) are a very useful model of a model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short-run, explain changes in the producer real wage rate using (D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long-run, explain change in the producer real cost of capital using (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 follow through to employment, capital and real GD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BEB-0B6C-43CB-8FE4-B2B3DC3830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BASIC TASKS IN CGE ANALYSI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oretical derivation of mod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mal theor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nearis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ibr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tabase construc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aluation of coefficie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lv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os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pret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7E6-F042-4508-92D9-690886F20B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ENERAL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try to explain the results for industry outputs drawing on the macro results and input-output link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vements in competitiveness, as indicated by changes in the real exchange rate, influence strongly outcomes for traded goods industr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the aggregate components of final demand influence strongly outcomes for non-traded goods industries, particularly servi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put-output linkages are important for industries like beef cattle and non-metallic product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625-7ADD-4D96-8CCE-AA4DB2582A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ENERAL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ving explained results for industry output, then move to employment, investment, etc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output and relative factor prices are critical drivers of  the changes in most other industry variable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20F6-1BE4-48FD-AEEB-9A095D95CE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CRO CLOSUR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 LONG-RU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89240" y="1998720"/>
          <a:ext cx="3479760" cy="37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240" y="1998720"/>
                    <a:ext cx="347976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F97-D7CB-4823-A9F1-0D23A57C48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NTERPRET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laining in a logical sequence the projections from a model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 each point in the sequence a result is explained drawing only on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ults explained earlier and/o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ues given in the database and/o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derlying theory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should be simple enough to be understood by economists not familiar with the details of the model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E19-18A4-44B8-A934-A9F67ACC5E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NTERPRET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heck on the model’s implement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hance credibilit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conomic insigh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or strateg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riable/equation tra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ealing to different models (whackery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103-E22F-4909-9160-908FAFF6C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NTERPRET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ys to a good strate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derstand the clos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dentify first-round impacts of the shoc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simplified models of  the mode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4CB7-249F-4AB1-82FE-7350AA47A7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ENERAL STRATEGY FOR INTERPRETING MACRO RESUL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find a way to enter the loo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nerally this will the point of first impact of the shock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n use aspects of the macro closure to explain the outcomes for the major components of real GDP from the income side and from the expenditure s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follow for  the real exchange rate, GDP deflator, the terms of trade, the trade balance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42C-2E10-4D1F-8334-C64E14056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MMEDIATE IMPACT OF WAGE CU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9720" y="1519200"/>
          <a:ext cx="3360600" cy="50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9720" y="1519200"/>
                    <a:ext cx="336060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864-75D7-4A7C-BA6D-073BF856D2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CRO CLOSUR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 SHORT-RU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079720" y="1752480"/>
          <a:ext cx="5921280" cy="44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9720" y="1752480"/>
                    <a:ext cx="592128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D0D1-DDE6-420A-AC1F-A8ED9D4D6B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factor demand equations (ignoring land and allowing only for labour-saving technological chang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141560" y="3392640"/>
                <a:ext cx="788976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57480" y="5105520"/>
                <a:ext cx="7810200" cy="12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o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942-CD84-4230-88EA-3B1DAAD172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Monash University</cp:lastModifiedBy>
  <cp:lastPrinted>2001-06-20T22:28:04Z</cp:lastPrinted>
  <dcterms:modified xsi:type="dcterms:W3CDTF">2001-06-21T00:30:01Z</dcterms:modified>
  <cp:revision>576</cp:revision>
  <dc:subject/>
  <dc:title>ECONOMIC EFFECTS OF THE SUGAR TARIFF</dc:title>
</cp:coreProperties>
</file>