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907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976E-845F-4DDE-A276-8724840E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07D-7AF1-499C-826F-7BE765B3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7C2D-DF01-431C-9E80-63FB4E62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05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7616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4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05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7616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94C-112D-479D-8C16-65CCE4FC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65E4-E636-4C4D-A1F7-DBD05E5F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B202-1877-42BB-B5A4-F4624005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D8E8-D7D9-4C90-BA61-A0B73F6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25F3-366E-46A8-9636-ECF4CA9E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FC3B-39C2-4640-9D5E-BC687B1C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34520" y="550800"/>
            <a:ext cx="58294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37C0-7EE8-4CB0-809D-F8E6BD52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6C85-34C3-4330-840D-A54B174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1AC6-CE4D-4AF5-B648-85BE3E59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FEA0-67BB-483B-9D6C-8E3F1AF1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A7B8-16BA-40A5-BEFE-B2923F79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E7BD-D761-457F-ACB1-5C7BA8AD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D89D-44D0-4AAA-B494-FB8F73AE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05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7616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05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37616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512F-2564-49F3-B7F7-1A35AE42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905-2DCA-4767-887B-044E3C33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5F03-8644-4D55-BB04-E1C60E23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A05-064B-4C7D-9446-C82F0EF5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4520" y="550800"/>
            <a:ext cx="58294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8BF-F5CE-4AC0-BD4E-097B2C5A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00A-283B-4F52-8E63-01D75A26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112-0F89-47EF-85B9-BD33C731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A31E-7EA9-4DA1-A27D-774C1AF2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68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8560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57440" y="88059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934C-6EDD-4DD6-BE93-2C13105EB595}" type="slidenum">
              <a:rPr b="1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6200" y="5508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568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8560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2574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B3A6-4698-4327-B71F-98948BAC74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MODEL INTERPRETATION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aining in a logical sequence the projections from a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 each point in the sequence a result is explained drawing on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ults explained ear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ues given in the databas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derlying theory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must be consistent with the model’s equations and databa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should be simple enough to be understood by economists unfamiliar with the details of the model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196-A41D-4994-A084-5E92B3F802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A STRATEGY FOR INTERPRETING MACRO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find a way to enter the lo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 this will the point of first impac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, use a  “back-of-the-envelope” model  to explain changes i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ative factor pr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ative factor quantit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al GD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, use aspects of the macro closure to explain the outcomes for the major expenditure components of real GD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then follow for  the real exchange rate, GDP deflator, etc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503F-72B1-41C9-A7EF-997573FC98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A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try to explain the results for industry outputs drawing on the macro results and input-output link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vements in competitiveness, as indicated by changes in the real exchange rate, influence strongly the outcomes for the traded goods industr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the aggregate components of final demand influence strongly the outcomes for the non-traded goods industries, particularly in the services secto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put-output linkages are important for industries like beef cattle and non-metallic product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55F-A3C4-454E-8F47-DE582C2E37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A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ving explained results for industry output, then move to employment, investment, 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output and relative factor prices are critical drivers of  the changes in most other industry variabl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05C-B7AF-4D6E-AD15-6B5B57EB40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IMMEDIATE IMPACT OF WAGE CU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88920" y="2195640"/>
          <a:ext cx="4848480" cy="73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195640"/>
                    <a:ext cx="4848480" cy="73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183-F4B9-477B-A214-5EE40DD5FC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USEFUL EQUATION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1676520"/>
          <a:ext cx="5487840" cy="72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5487840" cy="72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242-52E6-408A-87F4-08D54B2C4F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USEFUL EQUATION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8080" y="1981080"/>
          <a:ext cx="5402520" cy="730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5402520" cy="730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4C86-D3FA-478F-B0E7-8DED1A0EE2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MACRO CLOSURE 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1800" y="2895480"/>
          <a:ext cx="5056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895480"/>
                    <a:ext cx="505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8ED-1407-4DCE-9B21-C8B323F579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CoPS Monash University</cp:lastModifiedBy>
  <cp:lastPrinted>1998-11-24T06:19:30Z</cp:lastPrinted>
  <dcterms:modified xsi:type="dcterms:W3CDTF">1998-11-24T19:35:08Z</dcterms:modified>
  <cp:revision>352</cp:revision>
  <dc:subject/>
  <dc:title>ECONOMIC EFFECTS OF THE SUGAR TARIFF</dc:title>
</cp:coreProperties>
</file>