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7D0C-1462-47F8-8F93-7B120C01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EF5-0090-4C6F-BA07-F2AD7FA3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1552-59D1-4E1D-84DA-FBAE46D8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584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344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584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344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8A6E-FE22-4994-B0C1-49049934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0C66-05A3-41EE-84B6-23E90567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29E5-EFD6-4324-AF9A-14D74E65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E42-8404-42A7-837B-C7E1969A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104E-1CCF-4D5B-B8E8-B25B69A1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8451-6DE7-47C6-950D-79A6623B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12B-60CB-42F2-86B0-79460EE2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95F6-3FEF-4264-B539-1D43555F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4EC-8324-4A97-96BE-B67E0F76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54620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96092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960920" indent="-226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960920" indent="-226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1439-710B-443F-9363-80B467364833}" type="slidenum">
              <a:rPr b="1" lang="en-GB" sz="2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Review Of The Stylised Johansen Model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4D2-91D1-4D37-8E9B-FE30EB135CD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A Stylised Johansen-style Mod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model has two commodities, two primary factors and one final user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re is no international trade (no imports or export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model’s database is the simple input/output table shown above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973-7932-43B4-B5D4-EF3C730A75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equations of a typical Johansen model can be classified into five group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quations describing final demands for commodities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quations describing industry demands for primary factors and intermediate inputs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ricing equations setting pure profits to zero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Market clearing equations; 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Miscellaneous definitional equat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C3E-23B7-4C39-9873-A6FFB678C7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ation is based on a system of subscripts attached to common letters of the alphabe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etter x is associated with demand/suppl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etter p is associated with pri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etter y is associated with incom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ubscript 0 refers to the househol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ubscripts 1 and 2 refer to industries 1 and 2 which uniquely produce commodities 1 and 2; 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ubscripts 3 and 4 refer to labour and capita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894-9AC0-4D3F-822D-8CB3BC24A5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Final Demand for Commoditi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ousehold chooses amounts to consume of goods 1 and 2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 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20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 to maximise the Cobb-Douglas utility func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ubject to the budget constrai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809880" y="3352680"/>
                <a:ext cx="2781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333600" y="5173560"/>
                <a:ext cx="377208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156-E34D-45BB-9B5D-D3674DB064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Final Demand for Commoditi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lvl="1" marL="6238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here Y is total expenditure, the ps are the prices of goods 1 and 2, and the alphas are positive coefficients summing to one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olution: first-order condit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lope of indifference curve = slope of budget line, and consumer’s budget always satisfied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88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81200" y="3733920"/>
                <a:ext cx="3390840" cy="13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05520" y="4038480"/>
                <a:ext cx="377172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13FD-B82D-4F7F-A55D-2E9966F802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Final Demand for Commoditie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olution: consumer demand for commodity 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bb Douglas utility function preserves budget share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886200" y="2743200"/>
                <a:ext cx="245736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o</m:t>
                        </m:r>
                      </m:sub>
                    </m:sSub>
                    <m:f>
                      <m:num>
                        <m:r>
                          <m:t xml:space="preserve">Y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5D1-629B-4753-986B-F40346C454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dustry Demand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dustry j chooses amounts of material inputs and primary factors (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1j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 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2j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 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3j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 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4j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 to minimise total 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ubject to the Cobb-Douglas production fun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924360" y="3124080"/>
                <a:ext cx="255276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81240" y="5089680"/>
                <a:ext cx="60768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j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j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  <m:r>
                          <m:t xml:space="preserve">j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j</m:t>
                            </m:r>
                          </m:sub>
                        </m:sSub>
                      </m:sup>
                    </m:sSubSup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j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j</m:t>
                            </m:r>
                          </m:sub>
                        </m:sSub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2B96-1450-4E16-9D2C-06665F8DD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dustry Demand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lvl="1" marL="660960" indent="-25416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here X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Arial"/>
              </a:rPr>
              <a:t>j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is the output of good j (i.e., the output of industry j), and A and the alphas are positive coefficients, wi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t is assumed that whatever industry j’s output level, the industry will always minimise the cost of producing that output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305240" y="3124080"/>
                <a:ext cx="1790640" cy="11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891-815C-4D98-9512-9CDE86F434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dustry Demand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olution: first order conditions for industry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qual ratios of marginal product to price, and inputs fully utilised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14400" y="2895480"/>
                <a:ext cx="464832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867280" y="2905200"/>
                <a:ext cx="3429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×</m:t>
                    </m:r>
                    <m:limLow>
                      <m:e>
                        <m:limUpp>
                          <m:e>
                            <m:r>
                              <m:t xml:space="preserve">Π</m:t>
                            </m:r>
                          </m:e>
                          <m:lim>
                            <m:r>
                              <m:t xml:space="preserve">4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CD1-EAFA-4E40-A65C-56DE4C48EB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dustry Demand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olution: industry j’s demand for input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bb Douglas preserves costs shares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95600" y="2725560"/>
                <a:ext cx="6991200" cy="186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t xml:space="preserve">Π</m:t>
                                </m:r>
                              </m:e>
                              <m:lim>
                                <m:r>
                                  <m:t xml:space="preserve">4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j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233-BF86-41CD-8A7C-104AE84F89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put-output Data and Modell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efore the first CGE model came the input-output mode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Built by the economist Wassily Leontief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mphasises linkages arising from flows of goods and services, and from flows of primary factors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62720" indent="-2124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etween industries,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062720" indent="-2124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Between industries and final user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GE models are more genera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90840" indent="-2656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Include input-output linkages AND other linkages arising from economy-wide constraints on foreign exchange, labour, land, clean air, etc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42D-F820-47E1-8161-9DD02512DA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icing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t is assumed that all costs are accounted for, i.e., that there are zero pure profits. Thus the value of output equals the value of inputs for industry j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505320" y="3886200"/>
                <a:ext cx="29908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896-22FF-4252-9619-E530A5F0E0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Pricing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solution to the industry demand system tells us th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us the price of an industry’s output is a function of the prices of its inputs only. In other words, there are no scale effects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438280" y="2743200"/>
                <a:ext cx="455292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t xml:space="preserve">Π</m:t>
                                </m:r>
                              </m:e>
                              <m:lim>
                                <m:r>
                                  <m:t xml:space="preserve">4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j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BC4-D374-4B8A-97C4-4BDC68DCAA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mand Equals Supply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utput levels for goods 1 and 2 (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 and employment levels for labour and capital (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,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 satisfy demand. Thus, for i = 1, 2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62520" y="3402000"/>
                <a:ext cx="22478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16F-5304-42CF-BC10-DBCB5D7DCD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Demand Equals Supply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nd for i = 3, 4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95560" y="2514600"/>
                <a:ext cx="22291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A07A-330D-461F-B93C-5A0B8F3F42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1. Specification of Theory:</a:t>
            </a:r>
            <a:br>
              <a:rPr sz="2800"/>
            </a:b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Household Budget Equals Factor Incom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household budget equals factor incom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final system,  this equation is omitted (Walras Law)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inally, the numeraire (sets the absolute level of prices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200400" y="2743200"/>
                <a:ext cx="3505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38480" y="5410080"/>
                <a:ext cx="11588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6DD7-0D6F-4507-B22B-62FC1B766B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2. Linearis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deriving the linear form of the model in the percentage changes of the variables, we apply three rul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ower rul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 = </a:t>
            </a:r>
            <a:r>
              <a:rPr b="0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Q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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r = p + q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ower rul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 = </a:t>
            </a:r>
            <a:r>
              <a:rPr b="0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2400" spc="-1" strike="noStrike" baseline="34000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 baseline="34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34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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r = </a:t>
            </a:r>
            <a:r>
              <a:rPr b="0" lang="en-GB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um rul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 = P +  Q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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Rr = Pp + Qq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e that we use lower case letters to denote percentage changes in the corresponding upper-case variabl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BA9-9CE2-4A25-801D-1F5BB4ABC7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2. Linearis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xample - industry demand function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67480" indent="-267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67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67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67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67480" indent="-267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pply product ru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67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792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67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552760" y="2725560"/>
                <a:ext cx="5276880" cy="186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limUpp>
                              <m:e>
                                <m:r>
                                  <m:t xml:space="preserve">Π</m:t>
                                </m:r>
                              </m:e>
                              <m:lim>
                                <m:r>
                                  <m:t xml:space="preserve">4</m:t>
                                </m:r>
                              </m:lim>
                            </m:limUpp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α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j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j</m:t>
                                </m:r>
                              </m:sub>
                            </m:sSub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62320" y="5410080"/>
                <a:ext cx="5602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%Δ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</m:e>
                    </m: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735-5E4F-4419-8EF6-98EEADC11B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2. Linearis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pply product and power rules to {  }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ote that a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j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is omitted from the final form of the model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057400" y="2971800"/>
                <a:ext cx="57355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j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840-3EAD-46D6-93FA-B6EB7833AE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2. Linearis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xample - household budget equals factor incom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pply sum ru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950760" y="5057640"/>
                <a:ext cx="84232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276720" y="3124080"/>
                <a:ext cx="35049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85D3-1627-4A81-AFA9-19D6B08713D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2. Linearis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vide both sides by total final expenditure (equivalent to total returns to labour and capital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86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86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86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86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0720" indent="-2707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S coefficients are shares of labour and capital in total returns to labour and capital - see IO databas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07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47920" y="3657600"/>
                <a:ext cx="69357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8F50-078A-417A-97E1-282C007BBE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put-output Data and Modell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ata for an input-output model come from an input-output tabl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hows, for a particular year the value of the flows of goods and services and of primary factors between agents in the econom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ublished input-output tables generally recognis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Many (over 100) industries,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Many final users (households, various forms of investors and exporters), and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everal types of factor payments (payments to labour, capital and land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B234-8ADD-40AF-857F-D9FBE1E7C6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3. Evaluation of Coefficien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the stylised Johansen model, all coefficients can be evaluated from data in an input-output table for a specific year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e adopt the convention that one unit of good (or factor) i is the amount which costs 1 dollar in the base-period (i.e.,  the year of our input-output data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-25416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This means that the numbers in the IO table can be interpreted as either quantities or values (all prices are 1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609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5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4271-C027-4359-B1F5-268A2188EC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4. Solv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stylised-Johansen model can be represented, in general terms, a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z =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here A is a m by n matrix of coefficients (m is the number of equations and n is the number of variables), and z in an n-length vector of percentage-change vari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or the stylised Johansen model, the A matrix has 17 rows and 19 columns, i.e., m = 17 and n = 19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7DE-C2BB-4E1B-B4B6-BE160E6071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4. Solv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solve the stylised Johansen model (with m = 17 equations and n = 19 variables),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n - m = 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Variables must be declared exogenou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hoosing the exogenous/endogenous variables is called choosing a closu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1A2A-FED6-4F56-9CC0-7C4F1319464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4. Solv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hen a closure is chosen, we can partition the LHS a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here: A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is the m times m matrix formed by the m columns of A corresponding to the endogenous variables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is the m times (n-m) matrix formed by the (n-m) columns of A corresponding to the exogenous variables; 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Y is the m-length vector of endogenous variables, and x is the (n-m)-length vector of exogenous vari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95600" y="2903400"/>
                <a:ext cx="30672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C8A-7985-4840-90BA-CBA8531A0C5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28560" y="3808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4. Solv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uming that A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is invertible, we can re-write to solve for y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lement ij of the matrix (               ) is the elasticity of the ith endogenous variable with respect to the jth exogenous variabl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629160" y="2874960"/>
                <a:ext cx="280008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62520" y="4343400"/>
                <a:ext cx="1155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E24-3A99-49C5-95BC-94650F16B8B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4. Solving: Closur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re are four basic choices of closure arising from the lack of specification for the supplies of primary factor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No modelling of the supply of labour (no labour/leisure theory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No modelling of the supply of capital (no theory of investment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Thus, for each of labour and capital, price or supply must be exogenou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f the supplies of labour and capital  (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and X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) are exogenous, then the closure is described as full employment/short ru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ull employment implies that the wage rate adjusts to equate demand for labour to exogenously given suppl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BEF9-BC37-44A5-8372-6DAD0F2F9BC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4. Solving: Closur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Short run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implies that profitability (the price of capital) adjusts to equate demand for capital to exogenously given supply (changes in profitability, or rate of return, do not feed back into investment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f factor prices (P3 and P4) are exogenous, then the closure might be described as slack labour market/long-run: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lack labour market implies that labour supply adjusts to reconcile labour demand and the exogenously given price of labour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ong run implies that capital supply (investment) adjusts to reconcile capital demand and an exogenously given rate of retur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03A-9353-4E1F-9579-9C39B66C62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4. Solving: Closur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e closure must include one real variable to tie down the size of the economy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ince production is CRTS, unit revenue and unit cost for each industry is independent of output - there is no unique, profit-maximising level of outpu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practice two closures are used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Short-run -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ixed capital, fixed wage rat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</a:rPr>
              <a:t>Long-run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- fixed employment, fixed capital renta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D40-5F5A-4F91-A7FC-535B216937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put-output Data and Modell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139760" y="1139760"/>
          <a:ext cx="842796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139760"/>
                    <a:ext cx="84279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312B-D01A-4E38-B05B-7E61510709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put-output Data and Modell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asic assumptions in simple input/output table: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Two industries producing two commodities using two primary factors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ne final user (the household); 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No multi-product industries or multi-industry products (i.e. each industry produces just one commodity and each commodity is produced by just one industry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mmodity to industry sub-matrix is known as the absorption matrix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1BE-6726-45FD-8277-E108861E8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Input-output Data and Modelling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wo critical identiti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or each industry, costs = sa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For the economy as a whole, GDP from income side equals GDP from expenditure sid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urrent prices, not constant pr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put-output tables distinguished by the treatment of imports and by the prices at which they are valu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2C1-85AF-4F6E-BCB4-FAA362510D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A Stylised Johansen-style Mod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our steps in developing a Johansen-style CGE mode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pecification of theory (generally non-linear)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inearisation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Evaluation of coefficients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olving for endogenous variables in terms of values imposed for the exogenous vari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A82-3809-423B-B8A8-40D609ECAF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A Stylised Johansen-style Mod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stinguishing feature of a Johansen-style mode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olved as a system of linear equations in the changes (percentage or absolute) of the vari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stead of writing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 = f(X1, X2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here Y is output, X1 and X2 are inputs, and f(X1, X2) is a non-linear function (e.g., Cobb-Douglas), in a Johansen model we use the linear change form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06E9-B16D-4569-913D-02A4733D19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Arial"/>
              </a:rPr>
              <a:t>A Stylised Johansen-style Mod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here        is the elasticity of output with respect to inputs of factor i, and lower case characters denote percentage changes in corresponding upper-case variab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matrix notation, a Johansen model can be represented by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21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z  = 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where A is a matrix of coefficients and z is the vector of model variables expressed in percentage (or ordinary) chang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05120" y="2666880"/>
                <a:ext cx="2523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05320" y="1752480"/>
                <a:ext cx="314316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997-4D81-4B87-8722-87EB6E9BF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Monash University</cp:lastModifiedBy>
  <cp:lastPrinted>2001-06-17T21:34:19Z</cp:lastPrinted>
  <dcterms:modified xsi:type="dcterms:W3CDTF">2001-06-17T22:20:33Z</dcterms:modified>
  <cp:revision>563</cp:revision>
  <dc:subject/>
  <dc:title>ECONOMIC EFFECTS OF THE SUGAR TARIFF</dc:title>
</cp:coreProperties>
</file>