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907588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10EB-B710-4E7D-841E-E683C71C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40A-0054-4C88-9BAE-B44EB3BB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D049-B9F8-41A4-B8DB-54B13945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548-4457-41BE-88EB-D12DD8225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9231-FDFC-4819-8A1E-DB05CB8E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263A-0C0D-4B90-9DD5-68A45F69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D68-F773-44DB-855A-AE044A45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3F14-CCE3-4D18-ADD4-EE9F383C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2D5A-2ADA-433D-BFC0-47EED45E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6631-0E6F-4A22-95BE-5413DDDB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A055-D6D1-42EF-95EB-F2CA4B3B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7405-5A7F-4714-9997-BCC414F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FB53-5A11-4B8B-B221-8640727B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4EFF-AD97-4288-8D8F-B0A562ED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1495-E779-445C-868F-FC74421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DB8B-4296-4154-BD48-BDF71A76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7544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20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7544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CB57-F626-4653-9A64-D995931F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5DC5-1A78-4093-B6C1-3F44D92C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BE0C-5126-4F08-A0A8-629843D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213-55C5-4388-8814-426FB8A2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DC7D-D63F-4721-8656-8C1DD2AB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A07-3A06-4CA3-8260-84BACA3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2800" y="40546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EB1-451E-4CF1-9967-E86695A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2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2800" y="19051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200" y="40546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D2D-5C6A-401D-A9A1-14897BD3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4620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6092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A881-7398-41F2-8BF1-BB5A78984338}" type="slidenum">
              <a:rPr b="1" lang="en-US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312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437C-4784-4438-B8AC-11355580B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Regional Disaggregation in MONASH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8364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0000"/>
          </a:bodyPr>
          <a:p>
            <a:pPr marL="27432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ONASH Regional Equation System (MRES) is based on the Orani Regional Equation Syste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RES uses a 2-stage tops-down procedure to disaggregate Australia-wide resul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94360" indent="-2286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rst to the state/territory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594360" indent="-2286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 to the finer level of Statistical divis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each stage the regional projections add to results at the immediately higher level.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D21-62F8-4E80-A5C3-90EC7137A8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Commodity Disaggregation in MONASH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odity disaggregation facility in MONASH  is again a tops-down procedu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ions for output, export and imports for 780 commoditi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jections for sub-commodities are internally consistent: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.e.. they add, with appropriate weights to the projections for their parent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EAA-B1DA-44FC-A3C9-9E4D7F1EA77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Data Requirement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ata for disaggregation comes from ABS data at the 7-digit IO Commodity Classification (IOCC) level on the sales patterns of domestically-produced commodities and on their exposures to competition from impor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together, flows of the 228 MONASH parent commodities (114 domestic and 114 imported) are   be disaggregated into flows of 1560 sub-commodities (780 domestic and 780 imported)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2B4-3CCA-4F1B-8539-30AF1D7899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Method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ke for example the MONASH parent commodity Clay produ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sume two users, the construction industry and households, and that the growth rates in their use of clay products are 5% and 1%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e that Clay products has two subprodu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icks with 90% sold to construction, and 10% to househol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les with 50% sold to construction and 50% to househol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5B8-F5A6-485F-906F-F251088499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is stage best-guess forecasts for sales of domestic bricks and tiles ar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4.6 per cent (0.9*5 + 0.1*1)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0 per cent(0.5*5 + 0.5*1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 this ignores forecasts for imports of the parent commodity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Method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D45-6B40-443C-866F-B47C1C6937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282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e that imports of the parent, clay products, are projected to grow at 10 per ce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o imports of bricks, but considerable imports of til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ould recognize that rapid growth in imports of the parent will affect output growth of domestic tiles but not of domestic brick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Methodology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57D-B1C5-48EC-859C-C8D1E081F8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Treatment of import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65000"/>
          </a:bodyPr>
          <a:p>
            <a:pPr marL="222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2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22840" indent="-222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e tha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447920" y="2819520"/>
                <a:ext cx="654516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371600" y="5257800"/>
                <a:ext cx="70214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9</m:t>
                        </m:r>
                      </m:sup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8D3-4C83-4356-A41E-B321B6EFDA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Treatment of import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the simplest version (where there are no imports of the parent commodity), the phi parameter is zero.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this case, each disaggregated demand moves by the same per cent as the parent deman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he % change in total demand for commodity (i_q,s) will vary from the percentage change in demand for the parent commodity (i,s) only if the distribution of sales of the disaggregated commodity differs from that of the parent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2E5-4DE7-45C1-9A9B-7D7A37A771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762120"/>
            <a:ext cx="8750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However, if user j’s purchases of i_q are import intensive then we se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If user j’s purchases of i_q are domestic intensive then we set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352680" y="2666880"/>
                <a:ext cx="2845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352680" y="4648320"/>
                <a:ext cx="28450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284-F553-408E-95C5-F761557420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750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2000"/>
          </a:bodyPr>
          <a:p>
            <a:pPr marL="315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us, in general,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x(i_q,1,j) &lt; x(i,1,j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’s demand for i_q is relatively import-intensive and j’s demand for the imported parent is growing relatively quickl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j’s demand for i_q is relatively domestic-intensive and j’s demand for the imported parent is growing relatively slowly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6AA-7A37-49F1-8206-466DECF96D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Data Requirement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ps-down methodology uses a minimal amount of dat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res of each industry’s value added generated across region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sumes that the economy-wide input-output coefficients relating to the usage of commodities apply at each regional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 data are required on inter-state trade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2C5E-5C79-416E-BD3B-33C3289948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: States Disaggregation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 step is to allocate each commodity to one of two groups, national and loca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ational commodities are traded extensively across state borders (currently 89 of the 115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g.. agricultural and mining commoditi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cal commodities are those for which demand in each state is satisfied mainly from production in that state (account for about 60 per cent of GDP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g.. perishables and servic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953-1A79-4195-B371-80563D65BA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: States Disaggregation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0000"/>
          </a:bodyPr>
          <a:p>
            <a:pPr marL="274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ext step is to determine growth rates for each indust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national industries, growth rates set exogenously (from disaggregation point of view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594360" indent="-22860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eed to ensure tha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74320" indent="-27432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enerally we assume tha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432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5480" y="3581280"/>
                <a:ext cx="4346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124080" y="5410080"/>
                <a:ext cx="27338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0255-AA73-40D2-BB90-8ECE8A7CEA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: States Disaggregation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8000"/>
          </a:bodyPr>
          <a:p>
            <a:pPr marL="335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ut not always. For example, if ABARE tells us that copper mining in Tasmania is to grow slower than elsewhere, then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g(copper, TAS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ll be set to less than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g(copper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nd the remaining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g(copper,r)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aled to ensure the adding-up restriction hold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D1B-B761-4375-96EB-1589B00E6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1: States Disaggregation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5520" y="2666880"/>
            <a:ext cx="944568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64000"/>
          </a:bodyPr>
          <a:p>
            <a:pPr marL="2192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19240" indent="-2192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 local industries, production in state r is set equal to demand in state r (plus exports)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5200" indent="-1828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t is assumed that there is no inter-state trade in local commodit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19240" indent="-2192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 calculating state demand for local industry j, MRES takes accounts of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475200" indent="-1828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mediate and investment demands by local industries and the parts of national industries located in the state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5200" indent="-1828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e household demands (f(cr, q(r)-q)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5200" indent="-1828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vernment demand;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475200" indent="-1828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ny margins usage if j produces a margins commodity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192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192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192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317-1603-44D7-B745-8AB4F90555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2. Disagreggation to Division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5000"/>
          </a:bodyPr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ge 2 disaggregates the state projections to 56 statistical division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RES calculations in stage 2 have same structure as calculations in stage 1, except that rather than 1 disaggregation, there are 6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SW stage 1 results are disaggregated to the 12 divisions in NSW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VIC stage 1 results are disaggregated to the 11 divisions in VI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BFB6-3261-4F02-8ECE-5077BFFA31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2. Disagreggation to Division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in stage 1, in stage 2 each of MONASH’s commodities is classified to one of two categories: national-regional and local-regiona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 of national regional commodities grow in line with the state-wide growth rates calculated in stage 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utput of local regional commodities is modeled as depending mainly on demand within the reg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9000" indent="-2455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llow for the possibility of some demand for local-region commodities outside the region of their produ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0420-9B7A-48E6-AAFB-13DB94A47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300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Century Schoolbook"/>
              </a:rPr>
              <a:t>2. Disagreggation to Divisions</a:t>
            </a:r>
            <a:endParaRPr b="1" i="1" lang="en-US" sz="32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000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treatment of inter-region (not intra-state) trade in local-region commodities starts with identifying whether region d in state r is a net inter-region importer or exporter of i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a net intra-state importer then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(i,d) = g(i,d)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a net intra-state exporter the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(i,d) = etot(i,r(d))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FB3-6EF0-4ECB-8AE1-CBE0368F2E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CoPS Monash University</cp:lastModifiedBy>
  <cp:lastPrinted>1999-11-30T04:39:50Z</cp:lastPrinted>
  <dcterms:modified xsi:type="dcterms:W3CDTF">1999-11-30T05:02:30Z</dcterms:modified>
  <cp:revision>405</cp:revision>
  <dc:subject/>
  <dc:title>ECONOMIC EFFECTS OF THE SUGAR TARIFF</dc:title>
</cp:coreProperties>
</file>