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7421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7428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2248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216000" indent="0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ldImg"/>
          </p:nvPr>
        </p:nvSpPr>
        <p:spPr>
          <a:xfrm>
            <a:off x="895320" y="742680"/>
            <a:ext cx="4952880" cy="371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move the slid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body"/>
          </p:nvPr>
        </p:nvSpPr>
        <p:spPr>
          <a:xfrm>
            <a:off x="900000" y="4704840"/>
            <a:ext cx="4943520" cy="44578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dt" idx="7"/>
          </p:nvPr>
        </p:nvSpPr>
        <p:spPr>
          <a:xfrm>
            <a:off x="3820680" y="0"/>
            <a:ext cx="292284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marL="216000" indent="0" algn="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09D985FC-1644-4195-885E-5DCDF2A9AF24}" type="datetime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115/0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0" y="9410760"/>
            <a:ext cx="292248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20680" y="9410760"/>
            <a:ext cx="292284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 algn="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03E338BF-2B77-46AE-9E47-2F3FADF8584C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89532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00000" y="4704840"/>
            <a:ext cx="4943520" cy="44578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Good Afternoon, everyon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I am Huey-Lin Lee from Centre of Policy Studi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My research topic is abou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The treatment of privately owned motor vehicles in a CGE Model of Taiwan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First, I’ll briefly introduce the main features of the CGE model of Taiwan, the TAIGEM model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After that, I’ll introduce our innovations on TAIGEM concerning privately owned motor vehicl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¶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3820680" y="9410760"/>
            <a:ext cx="292284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EA67A636-5D5B-4E58-BA58-B73989420CB5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0" y="9410760"/>
            <a:ext cx="292248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0" y="0"/>
            <a:ext cx="292248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3820680" y="0"/>
            <a:ext cx="292284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1EB32E8D-DB94-42B3-B8D3-3402E9BAFC90}" type="datetime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115/0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93760" y="152280"/>
            <a:ext cx="4362480" cy="327204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150480" y="3499920"/>
            <a:ext cx="6365880" cy="44593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lvl="1" marL="457200" indent="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The following considerations motivates our innovations for privately owned motor vehicl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First, cars and motor fuels (gasoline) are complementary in producing tranport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Most CGE models, for example,  MONASH, which is a CGE model of the Australian enconomy, treat cars and motor fuels as substitutes in household dema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Second,  car owners derive utility from the transport services provided by their cars, but not from the acquisition of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Third, cars normally last  several yea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However, most CGE models just treat motor vehicles as perishables in household dema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Also,  new technology,  for example, higer standard of fuel efficiency, takes time to filter into car sto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The MONASH model assumes that  technical change affects the whole of capital stock immediately, which is not an appropriate assumption for ca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89532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00000" y="4704840"/>
            <a:ext cx="4943520" cy="44578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If we don’t deal with the problems just mentioned in th emodel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the model may produce odd results like thi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when the prices of gasoline and diesel fuel go up, households buy less of them but increase their demand for ca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3820680" y="9410760"/>
            <a:ext cx="292284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3C1A1EA4-F7E8-49F5-8B5E-71E3E818321C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0" y="9410760"/>
            <a:ext cx="292248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0" y="0"/>
            <a:ext cx="292248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820680" y="0"/>
            <a:ext cx="292284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DCCF15B6-8E23-48F1-B810-765401ADFFE4}" type="datetime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115/0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822240" y="0"/>
            <a:ext cx="4953240" cy="371484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533520" y="4114440"/>
            <a:ext cx="5759280" cy="44578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To solve these problems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we set up a new industry to assume the production of transport services for household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approach is conventionally employed in Input-Output accounting and CGE models to deal with household dwelling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The new  industry is called Private Transport Services, </a:t>
            </a: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PTS</a:t>
            </a: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The PTS industry uses cars (as capital) and motro fuels to produce transport servic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Car purchases are treated as additions to the capital stock of this industr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Its output is supplied to households exclusivel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Households get utility from the services of their cars, rather than from the acquisition of the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The durable nature of cars is also account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We allow for slight substitution between car capital and motor fuelsin producing transport services. This is  to reflect</a:t>
            </a: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reflect either self-directed or price-induced fuel economisation by car users without sacrificing drivin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cars and gasoline are complementary in producing transport servic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Also, household demands for motor fuels are related to the stock of motor vehicles they currently possess, but not only to those acquired in the current perio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On the contrary, the standard TAIGEM does not address these issues. So it would proudce odd results like I just show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89532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00000" y="4704840"/>
            <a:ext cx="5313600" cy="48834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Accordingly, we adapt the database by reallocating car-related expenditure of households to the cost column of the new industr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This figure shows the data adaptation for the new indust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We add in a column and a row in our input-output data ba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We move household purchases of gasoline to become the PTS industry’s intermediate inpu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Also, we move household purchases of motor vehicles to become the investment of the PTS indust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Then, we impute the car rentals for P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Fuel consumption tax and vehicle license tax are also counted in as part of the production costs of private transport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This PTS output  is sold to the household sector on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89532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00000" y="4704840"/>
            <a:ext cx="4943520" cy="44578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Two further issues are addressed in setting up the production structure of this new industr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First, we consider the fact that there is no gestation lag for newly acquired cars to yield servic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Second, we identify cars of different ages in thecapital stock of the PTS indust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We treat them as imperfect substitutes as they have different fuel efficienc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89532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00000" y="4704840"/>
            <a:ext cx="4943520" cy="44578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lvl="1" marL="457200" indent="0"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We modify the production structure of the PTS industry for the vintage distinc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This figure (also see figure 9 in page 9 of the paper)  shows the production structure of the PTS industry, with vintages identifi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We split the PTS industry into 11 sub-indust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The production structures of the sub-indsutries are the same as that of the original PTS industry, except that each sub-industry uses cars of the same age as capit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The transport services produced by the sub-industries are treated as imperfect substitut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In the figure we also see that brand-new cars are put into services as soon as they are acquir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89532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00000" y="4704840"/>
            <a:ext cx="4943520" cy="44578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This figure here (also see figure 11 on page 10 of the paper) the ageing of car stock in a forecasting simul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Brand-new cars in 1994 become 1-year-old in 1995  and 2-year-old in 1996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9-year-old cars in 1994 becom 10 years old in 1995 and they are thrown away in 1996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This is our assumption: the maximum service life of cars is 11 yea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We also need to transmit the fuel efficiency of each vintage from year to year in accrodance with the ageing of ca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So, fuel-saving technical change only affect new ca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3820680" y="9410760"/>
            <a:ext cx="292284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E2EBC586-B06C-4869-9F2F-99F54445E7B4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0" y="9410760"/>
            <a:ext cx="292248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0"/>
            <a:ext cx="292248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820680" y="0"/>
            <a:ext cx="292284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C12ECFAE-5956-4295-A320-572A0DE31927}" type="datetime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115/0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89532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00000" y="4704840"/>
            <a:ext cx="4943520" cy="44578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We run an illustrative simulation with the new version of TAIGEM, which we call TAIVI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We impose a 15% ad valorem tax on gasoline and diesel puchased by the PTS indust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We do not assum tax revenue neutrality in this simul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89532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00000" y="4704840"/>
            <a:ext cx="4943520" cy="44578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The last three columns show the results produced by the TAIVINT mode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When the prices of motor fuels go up, the PTS industry buy less of them. Also, its demand for new cars fa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This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The rises in gasoline and diesel fuel prices push up the production cost of PTS, and hence households demand less of private transport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Household Own-price elasticity of demand for PTS is -0.59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Household Own-price elasticities of demand for gasoline and diesel are -0.65 and -0.5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3820680" y="9410760"/>
            <a:ext cx="292284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EE2B76B0-6EC7-4ED1-B099-C91E92B5167F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9410760"/>
            <a:ext cx="292248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0" y="0"/>
            <a:ext cx="292248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3820680" y="0"/>
            <a:ext cx="292284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B2F94755-BFD3-462A-A821-41FDBED7A7C0}" type="datetime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115/0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89532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00000" y="4704840"/>
            <a:ext cx="494352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3820680" y="9410760"/>
            <a:ext cx="292284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5CFE3526-0616-4B0F-860B-4F6DFC980753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0" y="9410760"/>
            <a:ext cx="292248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0" y="0"/>
            <a:ext cx="292248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820680" y="0"/>
            <a:ext cx="292284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04860B6F-CC4B-4BD9-B01C-7E48DE6BF37E}" type="datetime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115/0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89532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449280" y="4705200"/>
            <a:ext cx="6067440" cy="4959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TAIGEM is a large scale (big) CGE forecasting model of Taiwa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It is constructed on the basis of the ORANI-G mode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With its focus on greenhouse gas issues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we have special treatment for the electricity industry, which is the heaviest single emitter of carbon dioxide in Taiwa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We allow for fuel substitution in the production of electricity by distinguishing 10 power-generating technologi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For non-electricity industries, we also allow for energy-substitution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I’ll introduce more about these late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In our database, we have a matrix showing CO2 emissions by users due to the combustion of fossil fuel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3820680" y="9410760"/>
            <a:ext cx="292284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AEE2E7A2-B519-4336-B0EA-93414DAC2FE3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0" y="9410760"/>
            <a:ext cx="292248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0" y="0"/>
            <a:ext cx="292248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820680" y="0"/>
            <a:ext cx="292284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38BB6800-D9C7-4F0B-8CE6-1B64A68F651B}" type="datetime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115/0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89532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449280" y="4705200"/>
            <a:ext cx="6067440" cy="4959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In TAIGEM, we have two multi-product industries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For example, the oil refinery industry produces gasoline and diesel fu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We specify a CET (constant elastciciy of tranformation) function to govern the output mix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That means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when gasoline price is relatively higher, the oil refinery industry will produce more gasoline than diesel fue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We apply the input-output  separability assumption for the production of multi-product industri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That means, changes in the output mix do no affect the input composition for produ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Next feature is that TAIGEM has a recursive dynamic mechanism for forecas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Capital stocks in each year are predetermined by investment made in the previous year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This implies our assumption that capital goods take one year to gestate before they start to provide  servic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We assume that industries hold static expections for next year’s rates of return to determine investment of the current yea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3820680" y="9410760"/>
            <a:ext cx="292284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A21CACF2-645A-4D32-9D14-ED6E1948DF3A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0" y="9410760"/>
            <a:ext cx="292248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0" y="0"/>
            <a:ext cx="292248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820680" y="0"/>
            <a:ext cx="292284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3521E3BC-A801-4375-90C3-5C918DE6B618}" type="datetime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115/0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89532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49280" y="4705200"/>
            <a:ext cx="6067440" cy="4959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I now give more details about our special treatment of the electricity indust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We partition the single electricity industry into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10 power-generating industries according to apparatuses and associated fuels,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one end-use supplier to distribute the electricity produced by the 10 technolog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We allow the EUS to substitute between these 10 sources of electricity according to the relative costs of produc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89532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09720" y="4718160"/>
            <a:ext cx="4943520" cy="49132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Table1 here (and also in page 5 of the paper) shows the specific inputs of the 10 power-generating industri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For example, the hydro plant needs dams for power generation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a coal-fired power plant burns coal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a gas-fired power plant burns natural gas  to drive turbines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and the Nuclear plant  uses uranium as fuel input, and reactor as capit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3820680" y="9410760"/>
            <a:ext cx="292284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46C0FF7C-B3E6-488B-94D3-D46EA7D246C5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0" y="9410760"/>
            <a:ext cx="292248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0"/>
            <a:ext cx="292248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820680" y="0"/>
            <a:ext cx="292284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99349703-2554-4311-8D25-10E593B7D0B0}" type="datetime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115/0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89532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00000" y="4704840"/>
            <a:ext cx="4943520" cy="44578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We specify a leontief production fucntion for the power-generating industri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Hence, fuels are used in fixed proportion to the output levels of the power pla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This specification also reflcets the  physical constraints of power plan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For example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output levels of hydroelectric plants are subject to the sizes of reservoir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output levels of gas-fired power plants are subject to the capacity of the storage facility for natural g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Output levels of nuclear power plants are subject to the installed capacity of reacto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3820680" y="9410760"/>
            <a:ext cx="292284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7249FA62-0BE0-488E-80A2-29FA5A11BB35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0" y="9410760"/>
            <a:ext cx="292248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0" y="0"/>
            <a:ext cx="292248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820680" y="0"/>
            <a:ext cx="292284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4D49FF2D-B94D-4FBC-B7A1-1E9330D82CE6}" type="datetime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115/0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89532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149040" y="4704840"/>
            <a:ext cx="6367320" cy="48070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Figure 3 here shows the nested production structure of the End-use suppli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As I just mentioned, the EUS can substitute between the 10 sources of electricity in response to the relative production cos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We regard the 10 sources of electricity as imperfect substitutes by specifying an elasticity of 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( rather than infinit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This is to reflect the real-world context that the power company normally </a:t>
            </a: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arrange the operating time shifts for power plants to </a:t>
            </a: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moderate its </a:t>
            </a: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cos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For example,  oil- and gas-fired plants are run to supply peak-load demand because their fuel costs are relatively hig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coal-fired and nuclear power palnts are run to supply base-load demand because their fuel costs are cheap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Another reason is that electricity output levles are subject to the installed capacity of power plan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It is physically no viable to instantly increase the output of some power pla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Therefore, we do not treat the 10 sources of electricity as perfect subsitutes as electricity consumers may thi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The special treatment of the electricty industry makes a practical modelling of  the electricity suppl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With this treatment, the Electricity industry may use more Natural Gas and less Coal as fuel to generate electricity in response to higher production costs due to environmental concer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--------------------------------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It is sensible for the electricity industry to substitute away dirty fuels in the face of the strengthening propaganda for CO</a:t>
            </a:r>
            <a:r>
              <a:rPr b="0" lang="en-AU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 emission abatement and the higher fuel costs due to the penalty tax on pollu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3820680" y="9410760"/>
            <a:ext cx="292284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D106D2C2-7392-4508-8D1E-BF3C9CEE573E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0" y="9410760"/>
            <a:ext cx="292248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0"/>
            <a:ext cx="292248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820680" y="0"/>
            <a:ext cx="292284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0C1B4111-FC03-43A8-8A88-FC20207103E0}" type="datetime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115/0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89532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448920" y="4704840"/>
            <a:ext cx="5994360" cy="44578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For non-electricity industries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we allow for substitution between fuels for combus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Exceptions are fuels used as energy trnasformation inputs (@@@), andAviation fuel used by the Air transport industry and the public admin services indust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Also, we allow for substitution between energy and primary facto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89532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899640" y="4704840"/>
            <a:ext cx="5389560" cy="47307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We make innovations on TAIGEM to address the following issues concerning privately owned motor vehicl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First we attempt to model houshoeld demand for cars and motor fuel in a better wa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Second, we treat cars as durable goo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We also allow embodied techinical change in car usage via the vintage capital approach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D9A8D-1ED1-4F7B-9E0C-D0AA9A16E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83059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4130640"/>
            <a:ext cx="83059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3669B-5594-48F2-A00A-923DFD15F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4053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65760" y="1981080"/>
            <a:ext cx="4053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4130640"/>
            <a:ext cx="4053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65760" y="4130640"/>
            <a:ext cx="4053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92DE0-7D8A-4B47-A5A2-05D3DDDEC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26744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18200" y="1981080"/>
            <a:ext cx="26744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26560" y="1981080"/>
            <a:ext cx="26744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4130640"/>
            <a:ext cx="26744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18200" y="4130640"/>
            <a:ext cx="26744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26560" y="4130640"/>
            <a:ext cx="26744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BCE39-A588-4419-9A21-DB5896EB6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DE286-5361-4315-A290-E0791CCD4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0948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7221E-034C-4302-A439-AB3A55A9E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36230-8A4C-4D7D-8A00-BB06DB8CE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4053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865760" y="1981080"/>
            <a:ext cx="4053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13B19-B57F-49B3-A679-65E50AAF0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8CB8D-C995-4F0E-9BCA-04E20E5A9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6840" y="60912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4AE2D-795D-4B31-A2A4-9F679F1D7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4053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65760" y="1981080"/>
            <a:ext cx="4053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09480" y="4130640"/>
            <a:ext cx="4053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67CD0-7E9E-4EA5-8D5C-8667B9CDC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38F22-2406-4D52-8A41-58579BC26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4053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65760" y="1981080"/>
            <a:ext cx="4053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865760" y="4130640"/>
            <a:ext cx="4053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24DA5-294E-4427-85BB-DF4C95D8B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4053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65760" y="1981080"/>
            <a:ext cx="4053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09480" y="4130640"/>
            <a:ext cx="83059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5EA71-6D7C-4830-A348-2105C34F6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83059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09480" y="4130640"/>
            <a:ext cx="83059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3534B-C35B-4687-8196-DA0D86B24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4053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65760" y="1981080"/>
            <a:ext cx="4053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4130640"/>
            <a:ext cx="4053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865760" y="4130640"/>
            <a:ext cx="4053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11438-DB9C-4700-B32C-77D6A8C41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26744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418200" y="1981080"/>
            <a:ext cx="26744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26560" y="1981080"/>
            <a:ext cx="26744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09480" y="4130640"/>
            <a:ext cx="26744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418200" y="4130640"/>
            <a:ext cx="26744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26560" y="4130640"/>
            <a:ext cx="26744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BDAB4-3E3E-4D6F-97C7-52FAC95EF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9426E-3E19-4938-960A-1CACFF80E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4053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65760" y="1981080"/>
            <a:ext cx="4053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36C32-B117-49F5-BC0F-E5DB7ADB1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3EDA0-2904-4A88-BDB9-3FDDE66F4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60912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583D0-FCF0-486F-843E-AE322371B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4053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65760" y="1981080"/>
            <a:ext cx="4053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4130640"/>
            <a:ext cx="4053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BD1B7-A3FA-451D-BB00-8C737F3E2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4053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65760" y="1981080"/>
            <a:ext cx="4053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65760" y="4130640"/>
            <a:ext cx="4053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DF53C-675A-4521-9663-DCD554FCD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4053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65760" y="1981080"/>
            <a:ext cx="4053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4130640"/>
            <a:ext cx="83059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F74CF-CC50-4407-BEEA-549C9718D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3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TW" sz="1600" spc="-1" strike="noStrike">
                <a:solidFill>
                  <a:srgbClr val="01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5D273-BAC4-4269-921A-EBEDFFC36D99}" type="slidenum">
              <a:rPr b="1" lang="zh-TW" sz="1600" spc="-1" strike="noStrike">
                <a:solidFill>
                  <a:srgbClr val="01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F92B3-78E2-4D16-AF8B-5E8E51145AD0}" type="slidenum">
              <a:rPr b="0" lang="zh-TW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336699"/>
                </a:solidFill>
                <a:latin typeface="Arial Narrow"/>
              </a:rPr>
              <a:t>Energy-using Consumer Durables in a CGE</a:t>
            </a:r>
            <a:br>
              <a:rPr sz="3600"/>
            </a:br>
            <a:r>
              <a:rPr b="1" lang="en-AU" sz="3600" spc="-1" strike="noStrike">
                <a:solidFill>
                  <a:srgbClr val="336699"/>
                </a:solidFill>
                <a:latin typeface="Arial Narrow"/>
              </a:rPr>
              <a:t>Model of Taiwan: the case of motor vehicles</a:t>
            </a:r>
            <a:r>
              <a:rPr b="1" lang="en-US" sz="3600" spc="-1" strike="noStrike">
                <a:solidFill>
                  <a:srgbClr val="336699"/>
                </a:solidFill>
                <a:latin typeface="Arial Narrow"/>
              </a:rPr>
              <a:t> </a:t>
            </a:r>
            <a:endParaRPr b="1" lang="en-US" sz="3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047760" y="2438280"/>
            <a:ext cx="571500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3399"/>
                </a:solidFill>
                <a:latin typeface="Arial"/>
              </a:rPr>
              <a:t>Huey-Lin Lee</a:t>
            </a:r>
            <a:r>
              <a:rPr b="1" lang="en-US" sz="17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3399"/>
              </a:solidFill>
              <a:latin typeface="Arial"/>
            </a:endParaRPr>
          </a:p>
          <a:p>
            <a:pPr indent="0" algn="ct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700" spc="-1" strike="noStrike">
                <a:solidFill>
                  <a:srgbClr val="003399"/>
                </a:solidFill>
                <a:latin typeface="Arial"/>
              </a:rPr>
              <a:t>Centre of Policy Studies/IMPACT Project</a:t>
            </a:r>
            <a:endParaRPr b="0" lang="en-US" sz="1700" spc="-1" strike="noStrike">
              <a:solidFill>
                <a:srgbClr val="003399"/>
              </a:solidFill>
              <a:latin typeface="Arial"/>
            </a:endParaRPr>
          </a:p>
          <a:p>
            <a:pPr indent="0" algn="ct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700" spc="-1" strike="noStrike">
                <a:solidFill>
                  <a:srgbClr val="003399"/>
                </a:solidFill>
                <a:latin typeface="Arial"/>
              </a:rPr>
              <a:t>Monash University</a:t>
            </a:r>
            <a:endParaRPr b="0" lang="en-US" sz="1700" spc="-1" strike="noStrike">
              <a:solidFill>
                <a:srgbClr val="003399"/>
              </a:solidFill>
              <a:latin typeface="Arial"/>
            </a:endParaRPr>
          </a:p>
          <a:p>
            <a:pPr indent="0" algn="ct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3399"/>
              </a:solidFill>
              <a:latin typeface="Arial"/>
            </a:endParaRPr>
          </a:p>
          <a:p>
            <a:pPr indent="0" algn="ct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700" spc="-1" strike="noStrike">
                <a:solidFill>
                  <a:srgbClr val="003399"/>
                </a:solidFill>
                <a:latin typeface="Arial"/>
              </a:rPr>
              <a:t>December 12, 2001</a:t>
            </a:r>
            <a:endParaRPr b="0" lang="en-US" sz="17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DF978-08AB-4CBD-B268-5783167E8E5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3818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336699"/>
                </a:solidFill>
                <a:latin typeface="Arial Narrow"/>
              </a:rPr>
              <a:t>Motivations</a:t>
            </a:r>
            <a:endParaRPr b="1" lang="en-US" sz="3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38224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3399"/>
                </a:solidFill>
                <a:latin typeface="Arial"/>
              </a:rPr>
              <a:t>Cars and gasoline should be complementary.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3399"/>
                </a:solidFill>
                <a:latin typeface="Arial"/>
              </a:rPr>
              <a:t>In ORANI and MONASH, they are substitutes</a:t>
            </a:r>
            <a:br>
              <a:rPr sz="2600"/>
            </a:br>
            <a:r>
              <a:rPr b="0" lang="en-AU" sz="2600" spc="-1" strike="noStrike">
                <a:solidFill>
                  <a:srgbClr val="003399"/>
                </a:solidFill>
                <a:latin typeface="Arial"/>
              </a:rPr>
              <a:t>in household demand.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2800" spc="-1" strike="noStrike">
                <a:solidFill>
                  <a:srgbClr val="010000"/>
                </a:solidFill>
                <a:latin typeface="Arial"/>
              </a:rPr>
              <a:t>Usage</a:t>
            </a:r>
            <a:r>
              <a:rPr b="0" lang="en-AU" sz="2800" spc="-1" strike="noStrike">
                <a:solidFill>
                  <a:srgbClr val="003399"/>
                </a:solidFill>
                <a:latin typeface="Arial"/>
              </a:rPr>
              <a:t> renders utility, not </a:t>
            </a:r>
            <a:r>
              <a:rPr b="1" i="1" lang="en-AU" sz="2800" spc="-1" strike="noStrike">
                <a:solidFill>
                  <a:srgbClr val="010000"/>
                </a:solidFill>
                <a:latin typeface="Arial"/>
              </a:rPr>
              <a:t>acquisition</a:t>
            </a:r>
            <a:r>
              <a:rPr b="0" lang="en-AU" sz="2800" spc="-1" strike="noStrike">
                <a:solidFill>
                  <a:srgbClr val="003399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3399"/>
                </a:solidFill>
                <a:latin typeface="Arial"/>
              </a:rPr>
              <a:t>Long-lasting service stream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3399"/>
                </a:solidFill>
                <a:latin typeface="Arial"/>
              </a:rPr>
              <a:t>New technology, e.g., higher standard of fuel effciency, takes time to filter into car stock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3399"/>
                </a:solidFill>
                <a:latin typeface="Arial"/>
              </a:rPr>
              <a:t>In MONASH, technical change affects WHOLE of capital stock immediately.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2606C-B453-4C43-B9E6-5386F04AA64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8" name=""/>
          <p:cNvGraphicFramePr/>
          <p:nvPr/>
        </p:nvGraphicFramePr>
        <p:xfrm>
          <a:off x="152280" y="380880"/>
          <a:ext cx="8991720" cy="5867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380880"/>
                    <a:ext cx="8991720" cy="586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0" name=""/>
          <p:cNvSpPr/>
          <p:nvPr/>
        </p:nvSpPr>
        <p:spPr>
          <a:xfrm>
            <a:off x="4038480" y="2019240"/>
            <a:ext cx="1143000" cy="3430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114800" y="2494080"/>
            <a:ext cx="990720" cy="304560"/>
          </a:xfrm>
          <a:prstGeom prst="ellipse">
            <a:avLst/>
          </a:prstGeom>
          <a:noFill/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E7DB3-7537-43FA-B7B1-4FE3D1E25C6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2" name=""/>
          <p:cNvGraphicFramePr/>
          <p:nvPr/>
        </p:nvGraphicFramePr>
        <p:xfrm>
          <a:off x="122400" y="1905120"/>
          <a:ext cx="9631080" cy="4800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400" y="1905120"/>
                    <a:ext cx="9631080" cy="48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" name=""/>
          <p:cNvSpPr/>
          <p:nvPr/>
        </p:nvSpPr>
        <p:spPr>
          <a:xfrm>
            <a:off x="304920" y="228600"/>
            <a:ext cx="761976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336699"/>
                </a:solidFill>
                <a:latin typeface="Arial Narrow"/>
              </a:rPr>
              <a:t>The Dummy Industry Approach for Private Transport Services (PTS)</a:t>
            </a:r>
            <a:endParaRPr b="0" lang="en-US" sz="3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6200" y="5791320"/>
            <a:ext cx="52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Complementarity between motor fuel and cars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620120" y="3276720"/>
            <a:ext cx="17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New indust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7543440" y="3581280"/>
            <a:ext cx="685800" cy="457200"/>
          </a:xfrm>
          <a:prstGeom prst="line">
            <a:avLst/>
          </a:prstGeom>
          <a:ln w="255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229600" y="48006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Arial"/>
              </a:rPr>
              <a:t>σ = 0.2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B6C6E-091F-4CD1-802E-ED7F4C1F00AD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9" name=""/>
          <p:cNvGraphicFramePr/>
          <p:nvPr/>
        </p:nvGraphicFramePr>
        <p:xfrm>
          <a:off x="0" y="7920"/>
          <a:ext cx="9144000" cy="7086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7920"/>
                    <a:ext cx="9144000" cy="708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"/>
          <p:cNvSpPr/>
          <p:nvPr/>
        </p:nvSpPr>
        <p:spPr>
          <a:xfrm>
            <a:off x="3733920" y="1690560"/>
            <a:ext cx="2149200" cy="1800"/>
          </a:xfrm>
          <a:custGeom>
            <a:avLst/>
            <a:gdLst/>
            <a:ahLst/>
            <a:rect l="l" t="t" r="r" b="b"/>
            <a:pathLst>
              <a:path w="1354" h="1">
                <a:moveTo>
                  <a:pt x="1354" y="1"/>
                </a:moveTo>
                <a:lnTo>
                  <a:pt x="0" y="0"/>
                </a:lnTo>
              </a:path>
            </a:pathLst>
          </a:custGeom>
          <a:noFill/>
          <a:ln w="22320">
            <a:solidFill>
              <a:srgbClr val="009999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733920" y="1874880"/>
            <a:ext cx="2133360" cy="1440"/>
          </a:xfrm>
          <a:custGeom>
            <a:avLst/>
            <a:gdLst/>
            <a:ahLst/>
            <a:rect l="l" t="t" r="r" b="b"/>
            <a:pathLst>
              <a:path w="1344" h="1">
                <a:moveTo>
                  <a:pt x="1344" y="0"/>
                </a:moveTo>
                <a:lnTo>
                  <a:pt x="0" y="0"/>
                </a:lnTo>
              </a:path>
            </a:pathLst>
          </a:custGeom>
          <a:noFill/>
          <a:ln w="22320">
            <a:solidFill>
              <a:srgbClr val="009999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5300280" y="2192400"/>
            <a:ext cx="609480" cy="0"/>
          </a:xfrm>
          <a:prstGeom prst="line">
            <a:avLst/>
          </a:prstGeom>
          <a:ln w="2232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048120" y="6400800"/>
            <a:ext cx="838080" cy="304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300280" y="2362320"/>
            <a:ext cx="609480" cy="0"/>
          </a:xfrm>
          <a:prstGeom prst="line">
            <a:avLst/>
          </a:prstGeom>
          <a:ln w="2232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3809880" y="2819520"/>
            <a:ext cx="1981440" cy="3657600"/>
          </a:xfrm>
          <a:prstGeom prst="line">
            <a:avLst/>
          </a:prstGeom>
          <a:ln w="2232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638680" y="2514600"/>
            <a:ext cx="838440" cy="304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49F1C-F345-4E25-BFFA-C3760C7BBCD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Arial Narrow"/>
              </a:rPr>
              <a:t>Further Practical Issues concerning PTS</a:t>
            </a:r>
            <a:endParaRPr b="1" lang="en-US" sz="3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No gestation lag for new car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Imperfect substitution between cars of different ages: they have different fuel efficiency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6AF0F-D79B-465F-BB56-29CA7A4F00A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0" name=""/>
          <p:cNvGraphicFramePr/>
          <p:nvPr/>
        </p:nvGraphicFramePr>
        <p:xfrm>
          <a:off x="152280" y="152280"/>
          <a:ext cx="8763120" cy="662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52280"/>
                    <a:ext cx="8763120" cy="662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2" name=""/>
          <p:cNvSpPr/>
          <p:nvPr/>
        </p:nvSpPr>
        <p:spPr>
          <a:xfrm>
            <a:off x="685800" y="198108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(No gestation lag)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C82F2-31EE-431F-B0E2-F71A035AF74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3" name=""/>
          <p:cNvGraphicFramePr/>
          <p:nvPr/>
        </p:nvGraphicFramePr>
        <p:xfrm>
          <a:off x="152280" y="228600"/>
          <a:ext cx="883944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228600"/>
                    <a:ext cx="883944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"/>
          <p:cNvSpPr/>
          <p:nvPr/>
        </p:nvSpPr>
        <p:spPr>
          <a:xfrm>
            <a:off x="1066680" y="4361040"/>
            <a:ext cx="7162920" cy="242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00"/>
              </a:spcBef>
              <a:spcAft>
                <a:spcPts val="300"/>
              </a:spcAft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lang="en-AU" sz="1800" spc="-1" strike="noStrike">
                <a:solidFill>
                  <a:srgbClr val="003399"/>
                </a:solidFill>
                <a:latin typeface="Times New Roman"/>
              </a:rPr>
              <a:t>Capital transmission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3399"/>
                </a:solidFill>
                <a:latin typeface="Times New Roman"/>
                <a:ea typeface="新細明體"/>
              </a:rPr>
              <a:t>CARCAP(“New”, t) = V2TOT(t)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3399"/>
                </a:solidFill>
                <a:latin typeface="Times New Roman"/>
                <a:ea typeface="新細明體"/>
              </a:rPr>
              <a:t>CARCAP(“1yo”, t) = (1 - DPRC)*CARCAP(“New”, t-1)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3399"/>
                </a:solidFill>
                <a:latin typeface="Times New Roman"/>
                <a:ea typeface="新細明體"/>
              </a:rPr>
              <a:t>CARCAP(“2yo”, t) = (1 - DPRC)*CARCAP(“1yo”, t-1)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3399"/>
                </a:solidFill>
                <a:latin typeface="Times New Roman"/>
                <a:ea typeface="新細明體"/>
              </a:rPr>
              <a:t>......…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3399"/>
                </a:solidFill>
                <a:latin typeface="Times New Roman"/>
                <a:ea typeface="新細明體"/>
              </a:rPr>
              <a:t>CARCAP(“10yo”, t) = (1 - DPRC)*CARCAP(“9yo”, t-1)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Times New Roman"/>
              </a:rPr>
              <a:t>Technical change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9649D-DC2F-4CED-8215-39840261504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336699"/>
                </a:solidFill>
                <a:latin typeface="Arial Narrow"/>
              </a:rPr>
              <a:t>An Illustrative Simulation with TAIVINT </a:t>
            </a:r>
            <a:endParaRPr b="1" lang="en-US" sz="3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3399"/>
                </a:solidFill>
                <a:latin typeface="Arial"/>
              </a:rPr>
              <a:t>shock: a 15% </a:t>
            </a:r>
            <a:r>
              <a:rPr b="0" i="1" lang="en-AU" sz="2800" spc="-1" strike="noStrike">
                <a:solidFill>
                  <a:srgbClr val="003399"/>
                </a:solidFill>
                <a:latin typeface="Arial"/>
              </a:rPr>
              <a:t>ad valorem</a:t>
            </a:r>
            <a:r>
              <a:rPr b="0" lang="en-AU" sz="2800" spc="-1" strike="noStrike">
                <a:solidFill>
                  <a:srgbClr val="003399"/>
                </a:solidFill>
                <a:latin typeface="Arial"/>
              </a:rPr>
              <a:t> petroleum tax on motor fuel—Gasoline and Diesel Fuel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3399"/>
                </a:solidFill>
                <a:latin typeface="Arial"/>
              </a:rPr>
              <a:t>Not revenue neutral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40DDD-671C-43F8-A73F-D7EC781E22F7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8" name=""/>
          <p:cNvGraphicFramePr/>
          <p:nvPr/>
        </p:nvGraphicFramePr>
        <p:xfrm>
          <a:off x="152280" y="380880"/>
          <a:ext cx="8991720" cy="5715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380880"/>
                    <a:ext cx="899172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" name=""/>
          <p:cNvSpPr/>
          <p:nvPr/>
        </p:nvSpPr>
        <p:spPr>
          <a:xfrm>
            <a:off x="3962520" y="1981080"/>
            <a:ext cx="1143000" cy="3812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038480" y="2438280"/>
            <a:ext cx="990720" cy="304920"/>
          </a:xfrm>
          <a:prstGeom prst="ellipse">
            <a:avLst/>
          </a:prstGeom>
          <a:noFill/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095880" y="2092320"/>
            <a:ext cx="0" cy="99072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172200" y="2092320"/>
            <a:ext cx="0" cy="99072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C48B4-370C-4872-A3F9-CDF6A69C888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1676520" y="2133720"/>
            <a:ext cx="579096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Questions ??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8A28F-E80D-4AB7-B42F-FD70D8318045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2280" y="685800"/>
            <a:ext cx="87631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Arial Narrow"/>
              </a:rPr>
              <a:t>Main Features of TAIGEM (1)</a:t>
            </a:r>
            <a:endParaRPr b="1" lang="en-US" sz="3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240" y="2362320"/>
            <a:ext cx="8915400" cy="396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3399"/>
                </a:solidFill>
                <a:latin typeface="Arial"/>
              </a:rPr>
              <a:t>A big CGE forecasting model of Taiwan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3399"/>
                </a:solidFill>
                <a:latin typeface="Arial"/>
              </a:rPr>
              <a:t>Environmental focu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600" spc="-1" strike="noStrike">
                <a:solidFill>
                  <a:srgbClr val="003399"/>
                </a:solidFill>
                <a:latin typeface="Arial"/>
              </a:rPr>
              <a:t>10 technologies of electricity gener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600" spc="-1" strike="noStrike">
                <a:solidFill>
                  <a:srgbClr val="003399"/>
                </a:solidFill>
                <a:latin typeface="Arial"/>
              </a:rPr>
              <a:t>Energy-substitution for non-electricity industr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600" spc="-1" strike="noStrike">
                <a:solidFill>
                  <a:srgbClr val="003399"/>
                </a:solidFill>
                <a:latin typeface="Arial"/>
              </a:rPr>
              <a:t>Emissions matrix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3399"/>
                </a:solidFill>
                <a:latin typeface="Arial"/>
              </a:rPr>
              <a:t>shows which users produce CO</a:t>
            </a:r>
            <a:r>
              <a:rPr b="1" lang="en-AU" sz="2400" spc="-1" strike="noStrike" baseline="-20000">
                <a:solidFill>
                  <a:srgbClr val="003399"/>
                </a:solidFill>
                <a:latin typeface="Arial"/>
              </a:rPr>
              <a:t>2</a:t>
            </a:r>
            <a:r>
              <a:rPr b="1" lang="en-AU" sz="2400" spc="-1" strike="noStrike">
                <a:solidFill>
                  <a:srgbClr val="003399"/>
                </a:solidFill>
                <a:latin typeface="Arial"/>
              </a:rPr>
              <a:t> and how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3399"/>
                </a:solidFill>
                <a:latin typeface="Arial"/>
              </a:rPr>
              <a:t>Example: Coal-fired electricity generators burn coal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57200" y="3352680"/>
            <a:ext cx="777240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FAF60-A235-4657-903C-1B2F8F476852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78F08-C0B0-440C-AFBA-68C7E99F206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685800"/>
            <a:ext cx="87631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Arial Narrow"/>
              </a:rPr>
              <a:t>Main Features of TAIGEM (2)</a:t>
            </a:r>
            <a:endParaRPr b="1" lang="en-US" sz="3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240" y="2057400"/>
            <a:ext cx="8915400" cy="32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3399"/>
                </a:solidFill>
                <a:latin typeface="Arial"/>
              </a:rPr>
              <a:t>2 Multi-product industries: Oil Refinery industry and Crude Oil and Natural Gas industry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631440" indent="-2426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600" spc="-1" strike="noStrike">
                <a:solidFill>
                  <a:srgbClr val="003399"/>
                </a:solidFill>
                <a:latin typeface="Arial"/>
              </a:rPr>
              <a:t>CET function governs the output mix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31440" indent="-2426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600" spc="-1" strike="noStrike">
                <a:solidFill>
                  <a:srgbClr val="003399"/>
                </a:solidFill>
                <a:latin typeface="Arial"/>
              </a:rPr>
              <a:t>Input-Output separability assump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291600" indent="-29160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3399"/>
                </a:solidFill>
                <a:latin typeface="Arial"/>
              </a:rPr>
              <a:t>Capital stocks in each year predetermined by previous year investmen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631440" indent="-2426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600" spc="-1" strike="noStrike">
                <a:solidFill>
                  <a:srgbClr val="003399"/>
                </a:solidFill>
                <a:latin typeface="Arial"/>
              </a:rPr>
              <a:t>One year gestation la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291600" indent="-29160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3399"/>
                </a:solidFill>
                <a:latin typeface="Arial"/>
              </a:rPr>
              <a:t>Static expectations of rates of return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3352680"/>
            <a:ext cx="777240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B50F4-EB8C-4B45-94E3-888FB37EC704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280" y="380880"/>
            <a:ext cx="876312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Arial Narrow"/>
              </a:rPr>
              <a:t>Special Treatment of Electricity Production</a:t>
            </a:r>
            <a:endParaRPr b="1" lang="en-US" sz="3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899172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3399"/>
                </a:solidFill>
                <a:latin typeface="Arial"/>
              </a:rPr>
              <a:t>Partition of the Electricity industry into: 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003399"/>
                </a:solidFill>
                <a:latin typeface="Arial"/>
              </a:rPr>
              <a:t>10 power-generating industries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3399"/>
                </a:solidFill>
                <a:latin typeface="Arial"/>
              </a:rPr>
              <a:t>Hydro (1)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3399"/>
                </a:solidFill>
                <a:latin typeface="Arial"/>
              </a:rPr>
              <a:t>Steam engines fired by petroleum, coal and natural gas (2)(3)(4) 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3399"/>
                </a:solidFill>
                <a:latin typeface="Arial"/>
              </a:rPr>
              <a:t>Combined cycle apparatuses fired by petroleum and natural gas (5)(6) 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3399"/>
                </a:solidFill>
                <a:latin typeface="Arial"/>
              </a:rPr>
              <a:t>Gas turbines fired by petroleum and natural gas (7)(8) 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3399"/>
                </a:solidFill>
                <a:latin typeface="Arial"/>
              </a:rPr>
              <a:t>Diesel engines (9)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3399"/>
                </a:solidFill>
                <a:latin typeface="Arial"/>
              </a:rPr>
              <a:t>Nuclear power plants (10)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003399"/>
                </a:solidFill>
                <a:latin typeface="Arial"/>
              </a:rPr>
              <a:t>1 End-use supplier (EUS) to distribute electrici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3399"/>
                </a:solidFill>
                <a:latin typeface="Arial"/>
              </a:rPr>
              <a:t>EUS substitutes between electricity generated using various fuel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57200" y="3352680"/>
            <a:ext cx="777240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73DC4-75B4-4816-BB40-60995104C14E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158760" y="1058760"/>
          <a:ext cx="8832960" cy="3665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8760" y="1058760"/>
                    <a:ext cx="8832960" cy="366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932DC-2F80-4638-9C6E-37CE9498476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39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Figure 2. Inputs to electricity-generating industries</a:t>
            </a:r>
            <a:endParaRPr b="1" lang="en-US" sz="1800" spc="-1" strike="noStrike">
              <a:solidFill>
                <a:srgbClr val="336699"/>
              </a:solidFill>
              <a:latin typeface="Arial Narrow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76320" y="685800"/>
          <a:ext cx="9448560" cy="6172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685800"/>
                    <a:ext cx="9448560" cy="617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72F75-8E64-4A59-8BD4-3FF2CD794A66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7" name=""/>
          <p:cNvGraphicFramePr/>
          <p:nvPr/>
        </p:nvGraphicFramePr>
        <p:xfrm>
          <a:off x="152280" y="1066680"/>
          <a:ext cx="9068040" cy="5105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9068040" cy="510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1920" y="304560"/>
            <a:ext cx="8915400" cy="39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Figure 3. The production structure of the End Use Supplier of electricity</a:t>
            </a:r>
            <a:endParaRPr b="1" lang="en-US" sz="1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0" name=""/>
          <p:cNvSpPr/>
          <p:nvPr/>
        </p:nvSpPr>
        <p:spPr>
          <a:xfrm>
            <a:off x="4648320" y="434340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σ = 5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C39C4-4C98-40FB-9A5F-AD9BF68E995C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6320" y="380880"/>
            <a:ext cx="8991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336699"/>
                </a:solidFill>
                <a:latin typeface="Arial Narrow"/>
              </a:rPr>
              <a:t>Energy Substitution in Non-Electricity Industries</a:t>
            </a:r>
            <a:endParaRPr b="1" lang="en-US" sz="3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5960" y="1752480"/>
            <a:ext cx="883908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Substitution between fuels for combustion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Exceptions: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Arial"/>
              </a:rPr>
              <a:t>Fuels used as energy transformation inputs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Arial"/>
              </a:rPr>
              <a:t>Coal used by the Coal Products Industr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Arial"/>
              </a:rPr>
              <a:t>Natural Gas used by the Oil Refinery Industr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Arial"/>
              </a:rPr>
              <a:t>Natural Gas and Refinery Gas used by the Gas Industr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Arial"/>
              </a:rPr>
              <a:t>No other substitutes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Arial"/>
              </a:rPr>
              <a:t>Aviation Fuel used by the Air Transport Industry and the Public Administration Service Industry (Airforce)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Substitution between energy and primary factor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57200" y="3352680"/>
            <a:ext cx="777240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52641-F46A-4387-A264-921052B152D2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304920" y="609480"/>
            <a:ext cx="83818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336699"/>
                </a:solidFill>
                <a:latin typeface="Arial Narrow"/>
              </a:rPr>
              <a:t>Innovations on TAIGEM: motor vehicles</a:t>
            </a:r>
            <a:endParaRPr b="0" lang="en-US" sz="3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304560" y="190512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Better modeling of household demand for cars and motor fuel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Treat cars as durable good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Allow embodied technical change via ‘vintage capital’ approach </a:t>
            </a:r>
            <a:br>
              <a:rPr sz="2800"/>
            </a:b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(work in progress)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33FE3-1E54-4849-A502-579BA4AC9A7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4T05:29:29Z</dcterms:created>
  <dc:creator>Huey-Lin Lee</dc:creator>
  <dc:description/>
  <dc:language>en-US</dc:language>
  <cp:lastModifiedBy>Huey-Lin Lee</cp:lastModifiedBy>
  <cp:lastPrinted>2001-12-11T10:43:38Z</cp:lastPrinted>
  <dcterms:modified xsi:type="dcterms:W3CDTF">2002-01-14T04:35:30Z</dcterms:modified>
  <cp:revision>440</cp:revision>
  <dc:subject/>
  <dc:title>General</dc:title>
</cp:coreProperties>
</file>