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9126360" cy="684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4" name=""/>
              <p:cNvSpPr/>
              <p:nvPr/>
            </p:nvSpPr>
            <p:spPr>
              <a:xfrm flipH="1">
                <a:off x="0" y="0"/>
                <a:ext cx="209520" cy="209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0" y="0"/>
                <a:ext cx="666720" cy="666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0" y="0"/>
                <a:ext cx="1143000" cy="1143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0" y="0"/>
                <a:ext cx="1657440" cy="1657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0" y="0"/>
                <a:ext cx="2171880" cy="2171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0" y="0"/>
                <a:ext cx="2724120" cy="2724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0" y="0"/>
                <a:ext cx="3257640" cy="3257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0" y="0"/>
                <a:ext cx="3790800" cy="3790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0" y="0"/>
                <a:ext cx="4324320" cy="432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0" y="0"/>
                <a:ext cx="4896000" cy="4896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0" y="0"/>
                <a:ext cx="5448240" cy="544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0" y="0"/>
                <a:ext cx="5981760" cy="5981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0" y="19080"/>
                <a:ext cx="6496200" cy="6496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184320" y="0"/>
                <a:ext cx="684504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>
                <a:off x="679320" y="0"/>
                <a:ext cx="684540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1155600" y="0"/>
                <a:ext cx="684540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1670040" y="0"/>
                <a:ext cx="684540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flipH="1">
                <a:off x="2198520" y="0"/>
                <a:ext cx="684540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flipH="1">
                <a:off x="2724120" y="438120"/>
                <a:ext cx="6407280" cy="6407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>
                <a:off x="3238560" y="952560"/>
                <a:ext cx="5892840" cy="58928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flipH="1">
                <a:off x="3753000" y="1467000"/>
                <a:ext cx="5378400" cy="537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>
                <a:off x="4286160" y="2000160"/>
                <a:ext cx="4845240" cy="4845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flipH="1">
                <a:off x="4843440" y="2557440"/>
                <a:ext cx="4280040" cy="427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flipH="1">
                <a:off x="5391000" y="3105000"/>
                <a:ext cx="3740400" cy="3740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H="1">
                <a:off x="5924520" y="3638520"/>
                <a:ext cx="3206880" cy="3206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>
                <a:off x="6458040" y="4172040"/>
                <a:ext cx="2673360" cy="2673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flipH="1">
                <a:off x="6972480" y="4686480"/>
                <a:ext cx="2158920" cy="2158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flipH="1">
                <a:off x="7505640" y="5219640"/>
                <a:ext cx="1625760" cy="162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flipH="1">
                <a:off x="7981920" y="5695920"/>
                <a:ext cx="1149480" cy="1149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H="1">
                <a:off x="8477280" y="6191280"/>
                <a:ext cx="654120" cy="654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flipH="1">
                <a:off x="8934480" y="6648480"/>
                <a:ext cx="196920" cy="196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" name=""/>
          <p:cNvSpPr txBox="1"/>
          <p:nvPr/>
        </p:nvSpPr>
        <p:spPr>
          <a:xfrm>
            <a:off x="76320" y="6415200"/>
            <a:ext cx="4572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fld id="{76205213-F427-402D-AC62-16112FCA06BD}" type="slidenum"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 txBox="1"/>
          <p:nvPr/>
        </p:nvSpPr>
        <p:spPr>
          <a:xfrm>
            <a:off x="8191440" y="190440"/>
            <a:ext cx="685800" cy="380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 txBox="1"/>
          <p:nvPr/>
        </p:nvSpPr>
        <p:spPr>
          <a:xfrm>
            <a:off x="4479840" y="2536920"/>
            <a:ext cx="866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7D2D3388-8241-40F0-B6A3-A239E913F9F3}" type="slidenum"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6232680" y="6019920"/>
            <a:ext cx="1996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52E4505E-1CB8-4B01-90E2-5CB9CB4925B1}" type="slidenum"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7696080" y="5943600"/>
            <a:ext cx="13716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fld id="{2F94D763-7F31-41D5-8655-2076C84DAAD0}" type="datetime"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/30/26</a:t>
            </a:fld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fld id="{499AC15D-8DF0-4366-BE1F-05EF815A9E2E}" type="datetime11"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1:57:17 PM</a:t>
            </a:fld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fld id="{3304F83B-98E0-4EC9-BDC9-01B6DE4E9C5F}" type="slidenum"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8213760" y="6148440"/>
            <a:ext cx="527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7932DBF0-011C-48F6-AE90-7CBD50FEB66B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The Australian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 algn="ctr">
              <a:lnSpc>
                <a:spcPct val="11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ilip D. Ad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1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ntre of Policy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1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anuary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Industry Pro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ro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ions of changes in industry technologies and consumer ta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ptions about government industry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ptions for traditional exports of agricultural and mining commod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ions for the structure of non-traditional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ptions about tourism ex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Industry Pro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ustry output, employment and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dity sales, exports and 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c and purchases p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53352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1996 in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7524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 algn="just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ustralian economy performed well in 199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 in real GDP increased to 4.0 per cent from 3.5 per cent in 199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I-inflation fell to 2.6 per cent, two percentage points below its 1995 leve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urrent account deficit narrowed to 3.7 per cent of GDP (5.3 per cent in 199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ever, some familiar problems rema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unemployment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arge Federal Government budget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Real Private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vate demand recovered in 1996 after slowing sharply in 199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as largely the result of stronger business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536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r and more stable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536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ive for productivity improvements through investment in new plant and equi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welling investment declined, in year-on-year terms, throughout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536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d sharply in final quarter, with housing affordability at a 10 year hi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Real Private Demand (con’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umption was a restraining influence on private demand in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pite rising household disposable income, spending slowed through the ye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creased savings rate might reflect a more cautious attitude because of the continuing high level of unemploy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avings rate has increased 2 percentage points over the past 18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Trade 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5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ort growth exceeded import growth in 1996 for the first time sing 19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orts grew by 10.7 per 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very in grain exports from drought-effected 1995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d strong growth in non-traditional exports and in tour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s grew by 8.5 per 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pid growth in equipment impor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Balance of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account deficit/GDP ratio peaked at the start of 1995 (6.3 per c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atio averaged 3.7 per cent in 199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rovement in the current account deficit was due entirely to a (short-lived) shift into surplus in the trade account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ong terms of trade increase, coupled with an improvement in net trade volu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Un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5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pite 4 years of strong growth in real GDP, unemployment remains above 8.5 per c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sons include inadequate flexibility in wages and strong push for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employment that has occurred over the past 2 years have mainly been part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ll-time employment has remained virtually fl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Inf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2600" indent="-282600">
              <a:lnSpc>
                <a:spcPct val="110000"/>
              </a:lnSpc>
              <a:spcBef>
                <a:spcPts val="119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I-inflation in 1996 was 2.6 per cent, compared with 4.6 per cent in 199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ge restrai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ict monetary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nt declines in mortgage interest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33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  <a:ea typeface="Century Schoolbook"/>
              </a:rPr>
              <a:t>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ip Adams</dc:creator>
  <dc:description/>
  <dc:language>en-US</dc:language>
  <cp:lastModifiedBy>Philip Adams</cp:lastModifiedBy>
  <cp:revision>0</cp:revision>
  <dc:subject/>
  <dc:title>ECONOMIC EFFECTS OF THE SUGAR TARIFF</dc:title>
</cp:coreProperties>
</file>