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907588" cy="6858000"/>
  <p:notesSz cx="6753225" cy="9842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3C13-B187-404F-ACA7-99C1A9CD0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200" y="190512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200" y="40546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C2C8-43BB-4913-B30F-56AA185F3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200" y="19051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2800" y="19051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200" y="40546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2800" y="40546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4EFA-0B18-4051-BFA9-06917A7F2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200" y="190512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75440" y="190512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200" y="40546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75440" y="40546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7286-B0A0-4AEB-BF71-DA0B5E542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64DB4-8058-4D07-84D9-948282BCB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20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F67DA-CFCC-45FB-85BC-298D66756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20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5F417-6467-41B1-B71C-52C63560A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200" y="190512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42800" y="190512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4DC0F-5888-43F1-8E06-F9045F418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19CAA-0615-4A7F-815E-5B5796B90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200" y="3805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F6292-B021-4CFD-95A3-86FC8586A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200" y="19051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42800" y="190512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200" y="40546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CE85A-D635-48D5-BFFC-42CE26DB4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20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CCDA-2F0E-4EFA-A5C5-AA1053FCE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200" y="190512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2800" y="19051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42800" y="40546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4ED29-03FE-47D3-A17B-7050C03C1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200" y="19051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42800" y="19051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200" y="40546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0C2D3-4920-427B-BEF8-2B037308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200" y="190512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200" y="40546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CBCFF-E16B-46DF-8121-648251FB5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200" y="19051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2800" y="19051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200" y="40546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42800" y="40546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C5CA6-7E66-4EE6-80C7-8C79DC87C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200" y="190512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75440" y="190512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200" y="40546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75440" y="40546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9C133-1377-457B-BAC8-8CE930334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20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A44A-794A-438C-8C0A-8940A2862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200" y="190512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2800" y="190512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D859-134E-4FF2-AA87-A4913A8C5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4DA1-7918-482E-A001-9AEF5A817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200" y="3805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B201-1E82-4FAE-9D86-CDFEAEEAF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200" y="19051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2800" y="190512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200" y="40546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1539-806B-4ABC-8880-48671C5D9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200" y="190512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2800" y="19051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2800" y="40546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E9E9-786A-48A6-B1C1-154A214D5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200" y="19051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2800" y="19051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200" y="40546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6230-BF3A-4C73-8379-665321E6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Century Schoolbook"/>
              </a:rPr>
              <a:t>Click to edit the title text format</a:t>
            </a: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20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lnSpc>
                <a:spcPct val="140000"/>
              </a:lnSpc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631440" indent="-242640">
              <a:lnSpc>
                <a:spcPct val="140000"/>
              </a:lnSpc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327680" indent="-194040">
              <a:lnSpc>
                <a:spcPct val="140000"/>
              </a:lnSpc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1683720" indent="-194040">
              <a:lnSpc>
                <a:spcPct val="140000"/>
              </a:lnSpc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1683720" indent="-194040">
              <a:lnSpc>
                <a:spcPct val="14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1683720" indent="-194040">
              <a:lnSpc>
                <a:spcPct val="14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3840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79720" y="624852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594200" y="609588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10420-7A23-4AA3-89CB-439A8C5C3CC9}" type="slidenum">
              <a:rPr b="1" lang="en-US" sz="2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312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Century Schoolbook"/>
              </a:rPr>
              <a:t>Click to edit the title text format</a:t>
            </a: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123840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879720" y="624852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594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14844-C919-43C7-9D42-86D69992F8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914400" algn="ctr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3" marL="1371600" algn="ctr">
              <a:lnSpc>
                <a:spcPct val="140000"/>
              </a:lnSpc>
              <a:spcBef>
                <a:spcPts val="400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 lvl="4" marL="1828800" algn="ctr">
              <a:lnSpc>
                <a:spcPct val="140000"/>
              </a:lnSpc>
              <a:spcBef>
                <a:spcPts val="300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42680" y="1599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Century Schoolbook"/>
              </a:rPr>
              <a:t>THE PACIFIC ECONOMIC OUTLOOK,</a:t>
            </a:r>
            <a:br>
              <a:rPr sz="3200"/>
            </a:br>
            <a:r>
              <a:rPr b="1" i="1" lang="en-US" sz="3200" spc="-1" strike="noStrike">
                <a:solidFill>
                  <a:srgbClr val="ffff00"/>
                </a:solidFill>
                <a:latin typeface="Century Schoolbook"/>
              </a:rPr>
              <a:t> 1999-2000</a:t>
            </a: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18960" y="3657600"/>
            <a:ext cx="78483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pril 1999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D415F-0248-498B-B478-4CE8BC6EB42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Century Schoolbook"/>
              </a:rPr>
              <a:t>1998 IN SUMMARY</a:t>
            </a: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92203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40000"/>
              </a:lnSpc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our economies enter 1999 with structural problem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lombia continues to struggle with high inflatio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ong Kong suffers from a grossly overvalued exchange rate still pegged to the US dollar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donesia lacks a legitimate governmen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apan suffers from a rapidly aging population and from a recession in which policy settings have been loosened to almost their fullest extent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A65C-A394-436F-92C7-3172DA394D6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Century Schoolbook"/>
              </a:rPr>
              <a:t>1998 IN SUMMARY</a:t>
            </a: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2820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essons from the AFC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ntagion effects are powerfu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.g. the Russian situation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mportant to have a well working and competitive financial sector if international capital movements are deregulated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olitical stability is importan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518E-61C0-4674-A01C-0431EA1C08F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Century Schoolbook"/>
              </a:rPr>
              <a:t>OUTLOOK FOR 1999 AND 2000</a:t>
            </a: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20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999 will be a year of recovery for the PEO reg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eighted average growth to reach 2.6 per cen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covery will be especially sharp in Korea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ost other countries that contracted in 1998 will only have modest pick up in 1999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ntinued contractions are forecast for Hong Kong, Indonesia and perhaps Japan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B854-F4E7-4D42-99E0-33232642736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Century Schoolbook"/>
              </a:rPr>
              <a:t>OUTLOOK FOR 1999 AND 2000</a:t>
            </a: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2820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40000"/>
              </a:lnSpc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rough the region, inflation is expected to drop to average about 2 per cen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2640" indent="-332640">
              <a:lnSpc>
                <a:spcPct val="140000"/>
              </a:lnSpc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BOP forecasts for 1999 display a mixed pictur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0720" indent="-27720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mall countries in deficit are expected to experience modest reductions in their deficit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20720" indent="-27720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mall countries in surplus are forecast to experience modest reductions in their surplus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148D-98CA-49F7-8AE4-5BE9A36B145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Century Schoolbook"/>
              </a:rPr>
              <a:t>OUTLOOK FOR 1999 AND 2000</a:t>
            </a: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2820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40000"/>
              </a:lnSpc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owever Japan’s surplus and the US’s deficit are both expected to increase.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orecasts for the year 2000 show a small increase in the weighted growth rate and a small rise in the weighted CPI.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57B9-76F8-4877-A869-907C8ACC489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Century Schoolbook"/>
              </a:rPr>
              <a:t>RISKS</a:t>
            </a: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20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140000"/>
              </a:lnSpc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xchange rate risk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668520" indent="-25704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valuation of the Yen and the Chinese RMB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08520" indent="-308520">
              <a:lnSpc>
                <a:spcPct val="140000"/>
              </a:lnSpc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tock market fall in the US spilling over to other countri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08520" indent="-308520">
              <a:lnSpc>
                <a:spcPct val="140000"/>
              </a:lnSpc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creasing pressure for protectionism in the lead up to the 2000 presidential elec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08520" indent="-308520">
              <a:lnSpc>
                <a:spcPct val="140000"/>
              </a:lnSpc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 rebound in commodity pric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2F6F-E4ED-49D1-99C8-6D77184F086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Century Schoolbook"/>
              </a:rPr>
              <a:t>RISKS</a:t>
            </a: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20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Y2K proble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Uncertainty about the future direction of the Japanese econom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olitical uncertaint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donesia, Mexico, New Zealand and Peru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40F4-D199-4209-BC5E-631AD716705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Century Schoolbook"/>
              </a:rPr>
              <a:t>RISKS</a:t>
            </a: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937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or several years, we have observed a 3 engine growth model for the region involving China, Japan and the U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model works if two engines are moving together, pulling the third (Japan) along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ut it breaks down if one of the three moves in reverse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evere recession in any of the economies will cause serious trouble for the region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8CD3-A11F-4C42-8C02-B2201D3EAF2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Century Schoolbook"/>
              </a:rPr>
              <a:t>1998 IN SUMMARY</a:t>
            </a: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1920" y="1905120"/>
            <a:ext cx="937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140000"/>
              </a:lnSpc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998 was a terrible year for many of the PEO economi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660960" indent="-25416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eighted average real growth was 1.0 per cent, compared to 4.3 per cent in 1997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660960" indent="-25416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f US excluded, then PEO region would have stagnated in 1998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660960" indent="-25416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ight economies contracted - Hong Kong, Indoneisa, Japan, South Korea, Malaysia, New Zealand, the Philippines and Thailand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D7B5-A935-4C18-A7C6-F2F1EA7792B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Century Schoolbook"/>
              </a:rPr>
              <a:t>REAL GDP GROWTH RATES, 1998-2000</a:t>
            </a: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286000" y="1682640"/>
            <a:ext cx="6095880" cy="5175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667B-CF97-493D-BFCE-D9178504029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Century Schoolbook"/>
              </a:rPr>
              <a:t>1998 IN SUMMARY</a:t>
            </a: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92203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40000"/>
              </a:lnSpc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ree traditional growth factors worked in reverse in 1998: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0720" indent="-27720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ignificant excess industrial capacity forced investment to decline in many countri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20720" indent="-27720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clines in investment led to reduced imports and hence reduced exports for neighboring countri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20720" indent="-27720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growth in Korea and Japan tourism turned sharply negative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66F3-103E-4DF8-B506-84D040C22E2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Century Schoolbook"/>
              </a:rPr>
              <a:t>1998 IN SUMMARY</a:t>
            </a: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2820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40000"/>
              </a:lnSpc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ix economies had good growth in 1998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698400" indent="-26856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ustralia, Canada, China, Mexico, the US and Vietnam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22200" indent="-322200">
              <a:lnSpc>
                <a:spcPct val="140000"/>
              </a:lnSpc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rowth in domestic demand underlined the good performance of Australia, China, the US and Vietna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22200" indent="-322200">
              <a:lnSpc>
                <a:spcPct val="140000"/>
              </a:lnSpc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rowth in exports (mainly to the US) supported Canada and Mexic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61F0-3C0A-4489-AB4A-72AE191BDD2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Century Schoolbook"/>
              </a:rPr>
              <a:t>1998 IN SUMMARY</a:t>
            </a: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2820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140000"/>
              </a:lnSpc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flation in the region ticked up to 3.8 per cent from 3.4 per cent in 1997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660960" indent="-25416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hen currencies depreciate, as many did in the region, CPI prices tend to ris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660960" indent="-25416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ut in 1998, this upward pressure was over-balanced by weak domestic demand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660960" indent="-25416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PI-inflation was negative in some economies, including China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5C44-563E-4DBB-BBA2-579318FC019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Century Schoolbook"/>
              </a:rPr>
              <a:t>INFLATION RATES, 1998-2000</a:t>
            </a: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133720" y="1216080"/>
            <a:ext cx="6645240" cy="5641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F937-A909-425F-BCED-6FE73870759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Century Schoolbook"/>
              </a:rPr>
              <a:t>1998 IN SUMMARY</a:t>
            </a: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93726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140000"/>
              </a:lnSpc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ll economies seriously impacted by the AFC in 1997 experienced sharp improvements in their BOP situations in 1998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676080" indent="-25992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donesia, Korea, Malaysia, the Philippines and Thailand had a combined deficit of $62 billion in 1997 and a combined surplus of $54 billion in 1998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12120" indent="-312120">
              <a:lnSpc>
                <a:spcPct val="140000"/>
              </a:lnSpc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mbined current account deficit for the PEO region was reduced from $171 billion in 1997 to $75 billion in 1998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676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1D29-7142-4137-B4C8-FBF4EFF9905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Century Schoolbook"/>
              </a:rPr>
              <a:t>CURRENT ACCOUNT BALANCES</a:t>
            </a:r>
            <a:br>
              <a:rPr sz="3200"/>
            </a:br>
            <a:r>
              <a:rPr b="1" i="1" lang="en-US" sz="3200" spc="-1" strike="noStrike">
                <a:solidFill>
                  <a:srgbClr val="ffff00"/>
                </a:solidFill>
                <a:latin typeface="Century Schoolbook"/>
              </a:rPr>
              <a:t> (% OF GDP), 1998-2000</a:t>
            </a: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523880" y="1676520"/>
          <a:ext cx="7473960" cy="546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676520"/>
                    <a:ext cx="7473960" cy="54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99B7-7969-4083-AF6C-20CC5FC9CDB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15T05:58:52Z</dcterms:created>
  <dc:creator>Philip Adams</dc:creator>
  <dc:description/>
  <dc:language>en-US</dc:language>
  <cp:lastModifiedBy>CoPS Monash University</cp:lastModifiedBy>
  <cp:lastPrinted>1999-04-14T04:17:10Z</cp:lastPrinted>
  <dcterms:modified xsi:type="dcterms:W3CDTF">1999-04-14T04:23:51Z</dcterms:modified>
  <cp:revision>419</cp:revision>
  <dc:subject/>
  <dc:title>ECONOMIC EFFECTS OF THE SUGAR TARIFF</dc:title>
</cp:coreProperties>
</file>