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4F8-7636-4A4E-A217-FB939524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20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5AC4-6187-4AE6-9AD5-50CEBE15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28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C80-BF47-4EA2-9DEE-DCCC8696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544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20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544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B5AC-980C-4C7D-9B08-B081C544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735D-3E09-4A45-911C-0B1846F9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2498-0E05-40C9-B78B-498321F8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7392-B2CE-48A3-BBDA-44C6E467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2F3E-FD98-451E-8916-8D801B2F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B6AD-0C25-40FE-901F-5238DDD6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200" y="3805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EC35-17B1-4B13-8399-0A772CEF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B737-09D9-4F93-AADC-C492B835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4A4-6229-49DD-92CF-4CED1319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28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65DF-A4E6-4A4A-B090-76B4E03A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53EE-20FA-477B-93DF-81CCF55C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20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1F3D-6A44-4338-AE15-D15DF31F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28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AA57-1BB8-4D70-AC4D-2E8EEA22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7544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20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7544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D446-4199-47A8-AF35-6ED522C3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2DA-D090-402A-A2F2-34213CA2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61C-59A1-4E04-9FA7-6996194E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A62-3FA5-4122-9644-F03251AD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200" y="3805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DF4-D10C-434F-B5F4-458E9E4B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DE9-AF32-43D0-BEF5-BC6A8871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28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E83A-E204-4D74-BBCF-E90675EC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9BF3-9BFC-445D-88F8-024B93D6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327680" indent="-1940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683720" indent="-1940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683720" indent="-1940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683720" indent="-1940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384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797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420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C922-E601-4D0F-AF58-7AA530454488}" type="slidenum">
              <a:rPr b="1" lang="en-US" sz="2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312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2384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8797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594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9AC9-BF3B-4E3A-BE4B-6BBB56924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lnSpc>
                <a:spcPct val="140000"/>
              </a:lnSpc>
              <a:spcBef>
                <a:spcPts val="400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4" marL="1828800" algn="ctr">
              <a:lnSpc>
                <a:spcPct val="140000"/>
              </a:lnSpc>
              <a:spcBef>
                <a:spcPts val="300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1599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THE AUSTRALIAN ECONOMY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8960" y="36576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ilip Ada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entre of Policy Stud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rch 199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B030-E90F-47D3-9747-45805574D4A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BALANCE OF PAYMENTS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(percentages of GDP)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2305080"/>
            <a:ext cx="79246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439C-85A1-4250-B741-C5CA5CDF2B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UNEMPLOYMENT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(average per cent unemployment rate)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2220840"/>
            <a:ext cx="8534520" cy="449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B9F8-7D3A-4BC9-8C5E-6455FDE047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5200" y="590400"/>
            <a:ext cx="8232480" cy="567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E8E-9B0E-4836-9C35-29E6FC194D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UNCERTAINTIES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GST pack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e assume that the package of reforms are not implemented before end of 200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the 12 months following implement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PI is projected to rise by 2.5 per cent relative to contro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mployment is projected to increase by 0.4 per cent, real GDP by 0.3 per cent and private consumption by around 1 per ce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0B4-65A5-441F-983F-1222E30784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UNCERTAINTIES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Japanese domin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eater than expected falls in business invest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ecasting no growth in real business investment between 1998 and 200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fairly optimistic given Australia’s typical experience following an investment boom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DC8-99DF-4D37-9222-EB2CB27784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WHAT CRISIS?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ustralia was able to weather the impacts of the Asian crisis due to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ong growth in real domestic deman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ability of Australian commodity exporters to switch markets away from Asia in favour of Europe and North Americ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unfavorable impact on required rates of return on Australian investmen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D77-0499-42E3-B143-CFCA0E1AC1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WHAT CRISIS?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alysis by the Centre of Policy Studies suggests that the Asian crisis caused Australia’s terms of trade to fall by around three per cent relative to control, leading 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0.3 per cent fall in real GD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0.2 per cent fall in employment an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 unchanged level of consump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42F-4D0E-47B1-978F-17D37F8B54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WHAT CRISIS?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required rates of return had risen by one percentage point then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al investment would fall by about 8 per c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mployment would fall by about 2 per cent and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al GDP would fall by about 1.2 per c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4D0-1BDE-4D22-BF41-BA89763FA7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1998 IN REVIEW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pite economic upheaval in Asia, the Australian economy grew strongly in 1998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al private domestic demand increased by 4.9 per cent and real GDP rose by 4.7 per c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PI-inflation increased  slightly to 0.9 per c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current account deficit widened to 5.1 per cent of GDP from 3.1 per cent in 1997 an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unemployment rate fell to below eight per c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0C8-6DF7-4EB7-BE59-58160D2732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REAL PRIVATE CONSUMPTION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(annual percentage growth rates)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2265480"/>
            <a:ext cx="8077320" cy="425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E42-064F-4148-B844-2CFEBAC6E7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REAL PRIVATE INVESTMENT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(annual percentage growth rates)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43000" y="2308320"/>
            <a:ext cx="7620120" cy="40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0B95-AB01-491E-93C5-DB422EAB07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REAL NET EXPORTS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(annual percentage growth rates)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2224080"/>
            <a:ext cx="8229600" cy="43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624-5505-4E48-82B9-3CF3615392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REAL GDP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(annual percentage growth rates)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2381400"/>
            <a:ext cx="792504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624-7B5D-4EAC-B428-4F8A2DE3BC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INFLATION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(annual percentage levels)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2184480"/>
            <a:ext cx="8381880" cy="441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BF9-5C34-4307-840D-C43EFE932F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INTEREST RATES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(annual percentage levels)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2224080"/>
            <a:ext cx="8229600" cy="43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BDB-3A47-4613-A060-2C7653D1CA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EXCHANGE RATE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(annual percentage change)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2224080"/>
            <a:ext cx="8229600" cy="43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9A6-BC1E-4BF7-8B9C-AF37274CE7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05:58:52Z</dcterms:created>
  <dc:creator>Philip Adams</dc:creator>
  <dc:description/>
  <dc:language>en-US</dc:language>
  <cp:lastModifiedBy>CoPS Monash University</cp:lastModifiedBy>
  <cp:lastPrinted>1999-03-13T08:24:56Z</cp:lastPrinted>
  <dcterms:modified xsi:type="dcterms:W3CDTF">1999-03-13T08:31:48Z</dcterms:modified>
  <cp:revision>422</cp:revision>
  <dc:subject/>
  <dc:title>ECONOMIC EFFECTS OF THE SUGAR TARIFF</dc:title>
</cp:coreProperties>
</file>