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26360" cy="684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4" name=""/>
              <p:cNvSpPr/>
              <p:nvPr/>
            </p:nvSpPr>
            <p:spPr>
              <a:xfrm flipH="1">
                <a:off x="0" y="0"/>
                <a:ext cx="209520" cy="20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0" y="0"/>
                <a:ext cx="666720" cy="666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0"/>
                <a:ext cx="1143000" cy="1143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1657440" cy="1657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0"/>
                <a:ext cx="2171880" cy="2171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2724120" cy="27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0"/>
                <a:ext cx="3257640" cy="3257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0"/>
                <a:ext cx="3790800" cy="379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0" y="0"/>
                <a:ext cx="4324320" cy="432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0" y="0"/>
                <a:ext cx="4896000" cy="489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0" y="0"/>
                <a:ext cx="5448240" cy="544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0" y="0"/>
                <a:ext cx="5981760" cy="5981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0" y="19080"/>
                <a:ext cx="6496200" cy="649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84320" y="0"/>
                <a:ext cx="684504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67932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15560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7004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219852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2724120" y="438120"/>
                <a:ext cx="6407280" cy="640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3238560" y="952560"/>
                <a:ext cx="5892840" cy="5892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3753000" y="1467000"/>
                <a:ext cx="5378400" cy="537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4286160" y="2000160"/>
                <a:ext cx="4845240" cy="4845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4843440" y="2557440"/>
                <a:ext cx="4280040" cy="427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5391000" y="3105000"/>
                <a:ext cx="3740400" cy="374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924520" y="3638520"/>
                <a:ext cx="3206880" cy="320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6458040" y="4172040"/>
                <a:ext cx="2673360" cy="267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6972480" y="4686480"/>
                <a:ext cx="2158920" cy="215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7505640" y="5219640"/>
                <a:ext cx="1625760" cy="162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7981920" y="5695920"/>
                <a:ext cx="1149480" cy="114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H="1">
                <a:off x="8477280" y="6191280"/>
                <a:ext cx="654120" cy="6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8934480" y="6648480"/>
                <a:ext cx="196920" cy="196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"/>
          <p:cNvSpPr txBox="1"/>
          <p:nvPr/>
        </p:nvSpPr>
        <p:spPr>
          <a:xfrm>
            <a:off x="76320" y="6415200"/>
            <a:ext cx="457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fld id="{937F8C7F-397A-4C2E-9AFA-1C2F84CEC4CF}" type="slidenum"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1440" y="190440"/>
            <a:ext cx="68580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4479840" y="2536920"/>
            <a:ext cx="866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64CDB9F-1393-46CA-9617-2FC2568282AF}" type="slidenum"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6232680" y="6019920"/>
            <a:ext cx="1996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4965C1D-078F-47BB-B493-3DE91DF0BBAD}" type="slidenum"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7696080" y="5943600"/>
            <a:ext cx="1371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98385726-3839-4D79-9084-05B548ED3521}" type="datetime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fld id="{D77BEC84-17CC-4D02-9C35-E37E2A18F43E}" type="datetime11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1:57:26 PM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fld id="{79CBCC09-E1AA-490E-AAC3-DD298EB0D571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213760" y="6148440"/>
            <a:ext cx="527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7B1C8DA-047B-4CED-88F0-D17574B06E2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The Australian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ilip D.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e of Polic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ch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The Exchang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3657600"/>
            <a:ext cx="807732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dity prices will help to underpin the $AUS over the next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stralian dollar fell sharply against the TWI in the third quarter of 1997, but since then has remained st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reciation against the US and European currencies offsetting appreciation against most Asian curr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re mostly dow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rther Asian disruption, reversals in commodity prices, changing market m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365760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terms of trade will offset deterioration in real net trade, leaving the trade account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 net income deficit will worsen (around 50 per cent of Australia’s debt is influenced by changes in the US dollar)resulting in a current account deficit stuck at 5 per cent of GDP or w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4038480"/>
            <a:ext cx="8077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growth over the past four years  is only now being reflected in the job market, ensuring that the unemployment rate will shortly move below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ly, there has been over the last five months a recovery in full-tim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es in real unit labour costs are likely to prevent the unemployment rate falling below 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82760" y="227160"/>
            <a:ext cx="637704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isks and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19320"/>
            <a:ext cx="8077320" cy="50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ext federal election must be held by March 1999. An election is possible anytime after April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ser than currently-expected monetary and fisca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ffects of a Labour party victory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ge costs are rising ahead of increases in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etary policy tightened faster than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Japanese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Effects of the Asian Economic Uphea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income effects in Asia which reduces demand for Australian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hange rate movements which alter the competitiveness position of Australian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d capital inflow arising from a deterioration in the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228600"/>
            <a:ext cx="807732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Direct Income Effects on Australian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rowth in 1998 is likely to be just over 2 per cent, compared with 11.6 per cen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of this fall can be attributed to direct inco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tors most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iculture and processed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 and busines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urism and air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factures - TCF, steel and petrochem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Changes in 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49280" y="1447920"/>
            <a:ext cx="77929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creased Capital In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r current account defic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increased net capital in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moves when there are changes in relative interest rates (including risk premia) adjusted for expected changes in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third quarter of 1997,  interest-rate differentials have recorded little change and exchange rates have begun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 is attracting additional inflow  because it is seen as a safe haven for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 capital is entering the country because of changes in perceived relative-risk pr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53352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1997 i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7524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 algn="just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ustralian economy grew strongly in 1997 because of domestic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domestic demand rose by 3.3 per cent and real GDP rose by 2.8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I-inflation fell to 0.2 per cent, 2.5 percentage points below its 1996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account deficit narrowed to 3.5 per cent of GDP from 4.1 per cent in 1996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nemployment rate fell to 8.1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Private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4038480"/>
            <a:ext cx="807732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rterly growth of 1.4 per cent in the second half of 1997 cannot be sustained, but growth will remain solid through 1998 and the first half of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is likely to decline because of a cyclical increase in the savings rate, and because of structural factors such as the cost of the Super Guarantee Charge being shifted to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Privat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403848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using upswing is here, and indicators of affordability and supply tightness indicate continued strong growth through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in non-dwelling construction will offset slowdown in equipment investment (recently growing at an unsustainable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Public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403848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demand from the public sector will contribute to growth in 1998 and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th in real public consumption (the government’s real wage bill) will average around 1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wth in public investment (discounting for the effects of privatisation) will be around 10% in 1998 after falling in 1996 and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Net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3733920"/>
            <a:ext cx="8077320" cy="31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exports are expected to detract from growth in 1998, with a modest contribution likely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ort volumes will be hit hard by the Asian decline and (in 1998(I) by the effects of competitiveness losses in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reciations against US and Europe currencies mean less imports from these countries (mainly capital and consumer goods), but appreciations against Asian currencies will boost imports of manufactured art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negative is slow growth in equipment 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403848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 is currently in an upswing, with Asia tempering domestic strength by late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year-on-year terms real GDP is forecast to rise by 4.2 per cent in 1998 and 3.6 per cent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end rate of growth is 2.5 to 3.0 per 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3809880"/>
            <a:ext cx="8077320" cy="31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ation is low, but growth in wages and other labour costs is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ositive is the appreciation against Asian currencies which will import some price dam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ainst this are recent large rises in real wages (the largest quarterly rises for about 20 years) only partly offset by increased productivity, which looks set to continue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reciations against US and Europe will raise prices of imports from thos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teres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3733920"/>
            <a:ext cx="8077320" cy="299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BA is likely to keep short interest rates on hold through the first half of 1998 due to strong employment growth and continuing low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short rates will start rising by end-1998 (or  after the next Federal election, if sooner) in response to rising inflation (the top of the RBA’s target range is 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 rates are likely to remain at current rates until inflationary expectations pic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ip Adams</dc:creator>
  <dc:description/>
  <dc:language>en-US</dc:language>
  <cp:lastModifiedBy>Philip Adams</cp:lastModifiedBy>
  <cp:revision>0</cp:revision>
  <dc:subject/>
  <dc:title>ECONOMIC EFFECTS OF THE SUGAR TARIFF</dc:title>
</cp:coreProperties>
</file>