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7CC-FA8B-4D88-9304-D0E4B907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873-8C2D-4F8A-B8C1-F95E062B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613-8716-47AF-82D6-D8C24B5B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54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54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AD3-87BC-479E-B397-1E68FB92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FC8-5700-4514-94B9-1E5AE3B2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BC7-B8A6-4CA7-8548-DF52BA29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567-7742-4D66-A83B-C55900FC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428-711F-48C5-9C63-E9E47012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D65-B9C3-4687-8656-EC2847B3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086-E932-4B73-A5DA-B0E340B1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E1A-487B-48A6-8C82-1A7229EA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DDF-BE6D-4222-8C64-263D7DE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32768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683720" indent="-194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683720" indent="-19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683720" indent="-19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D8D-B558-4CCE-B7C0-8A5E428F1B46}" type="slidenum">
              <a:rPr b="1" lang="en-GB" sz="2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FORECASTS FOR AUSTRALIAN REGIONS USING THE MMRF-GREEN MODEL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9A1-4587-4F1F-BD87-5457DDA745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MAIN MACRO ASSUMPTION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verage GDP growth of 3.2 per c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A - 4.0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QLD - 3.7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………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AS - 2.0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 - 2.5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B0B-5AEE-4489-A37C-4FDB4C447D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MAIN MACRO ASSUMPTION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al consumption grows in line with real GS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verage growth in labour productivity in each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ationally, investment grows at 3.0 per c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-2685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fferences between states/territory reflect different initial conditions, different industrial compositions and specific assumptions (e.g., aluminium in QLD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ernational exports and imports grow rapidly.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BFE-5F56-470D-925F-1E417E04EA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CHANGES IN TECHNOLOG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ermediate input using technological chan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mmunication and Financial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etal products, motor vehicl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ermediate input saving technological chan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n ferrous ores, Cement, Other manufacturing, Wholesale trade, Retail trade, Accommodation servic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08C-3A31-4BC8-9BE6-DB692265C3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CHANGES IN TECHNOLOG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rovements in total factor productivity in almost all industries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latively rapid improvements in Agriculture, Public utilities and Communication services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E7C-EB41-47DB-82BC-7A27A4C47B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CHANGES IN HOUSEHOLD TASTE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vour Motor vehicles, Financial and business services and other servic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gainst petroleum products, road transport services and public servic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24D-DDAD-4D03-BF1B-30E89D0474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INDUSTRY OUTPUT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ustries favoured by technical chan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lnSpc>
                <a:spcPct val="14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mmunication services; Finance, property and business services; Other metal produ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ectors favoured by rapid export grow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lnSpc>
                <a:spcPct val="14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ther transport services (tourism); aluminium/alumina and other metal produ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ectors disadvantaged by relatively slow export grow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griculture and parts of min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B14-CC9F-425C-8823-FF49ABDFEB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INDUSTRY OUTPUT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lectricity Sector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lectricity generation - gas favoured by technical chang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ther generation and distribution disadvantaged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ustries disadvantaged by increased import compet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tiles, clothing and footwear, Wood and paper produ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maining industries affected by offsetting for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446-F79E-4803-80E6-EEAAE38CDD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UB-STATE Gross Regional  Products (GRP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tors underlying forecasts for sub-state regions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ate-level forecasts of industry growth r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fferences in industrial struc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gion-specific industry effe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opulation movemen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ocal multipli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FEE-2F7F-497B-B833-53D4B22CC4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UB-STATE Gross Regional  Products (GRP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stest growing regions generally belong to fastest growing states (Figure 2)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1 Perth (WA)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4.7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2 Peel (WA) 4.6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3 Gascoyne (WA) 4.3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4 Great Southern (WA) 4.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 South West (WA) 4.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6 Far North (QLD) 4.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7 Moreton (QLD) 4.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8 Kimberley (WA) 4.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9 Brisbane (QLD) 4.0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10 Northern (QLD) 3.9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11 Darling Downs (QLD) 3.9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12 Sydney (NSW) 3.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21D-3680-4C51-A7AA-4E9EC226D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UB-STATE Gross Regional  Products (GRP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lowest growing regions generally belong to slowest growing states (Figure 2)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45 North Western (NSW) 2.6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46 Central West (NSW) 2.6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47 South East (SA) 2.5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48 Yorke &amp; LN (SA) 2.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49 Greater Hobart (TAS) 2.4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0 Northern (TAS) 2.4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1 East Gippsland (VIC) 2.3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2 La Trobe Valley (VIC) 2.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3 Mersey-Lyell (TAS) 2.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4 Wimmera (VIC) 2.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08440" indent="-221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5 Southern (TAS) 2.0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56 Eyre (SA) 1.8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390-ECBF-4FF7-BB96-A26B65FA7E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MMRF-GREEN BASED ON MMR 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ased on Monash Multi-Regional (MMR) mod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MR is a complete bottoms-up model of the Australian econom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vers the six states and two territor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odels each region as an economy in its own righ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gion-specific pr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gion-specific consum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gion-specific industries, etc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746-7630-4666-9316-5CA89A1B78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UB-STATE Gross Regional  Products (GRP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gnificant disparities within states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apital cities do very well in each sta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ver-representation of relatively fast growing service industr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der-representation of relatively slow growing mining and agricul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o understand gap between each region’s growth rate and the corresponding state growth rat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grp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- gsp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=  Sum(i) { (S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- S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i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(g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i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- gsp</a:t>
            </a:r>
            <a:r>
              <a:rPr b="0" lang="en-GB" sz="2400" spc="-1" strike="noStrike" baseline="-4000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+ S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g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- g</a:t>
            </a:r>
            <a:r>
              <a:rPr b="0" lang="en-GB" sz="2400" spc="-1" strike="noStrike" baseline="-13000">
                <a:solidFill>
                  <a:srgbClr val="ffff00"/>
                </a:solidFill>
                <a:latin typeface="Arial"/>
              </a:rPr>
              <a:t>i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}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831-12AA-4A95-89F5-22D885CF96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UB-STATE Gross Regional  Products (GRP)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or Tasman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09120" indent="-2343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obart and Northern have above average prospe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09120" indent="-2343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outhern and Mersey-Lyell have below average prospe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obart strength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09120" indent="-2343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ver representation of service industr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09120" indent="-2343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er representation of mining, agricult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obart weaknes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09120" indent="-2343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er representation of other transport servic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09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37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CBB-E494-41CC-AE9B-FF8CB1745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MMR 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MR's primary database covers over 100 industries and their produc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t has explicit representations of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ra-regional, inter-regional and international trade flows based on regional IO data developed at CoP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etailed data on state and federal government's budge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062-6DCC-4392-8084-31A2F8D6E4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FROM MMR TO MMRF-GREEN:</a:t>
            </a:r>
            <a:br>
              <a:rPr sz="3200"/>
            </a:b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tep 1 Data Preparation 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ggregate database to 37 industries in each state, including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parate single-product industries producing oil, natural gas and brown co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ive separate electricity generating industries and a single electricity distribution indust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51560" indent="-2102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generators distinguished by primary-fuel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51560" indent="-2102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istributor allowed to substitute between sources of gener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0EB-15BA-415E-B5B2-8FDFD095D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FROM MMR TO MMRF-GREEN:</a:t>
            </a:r>
            <a:br>
              <a:rPr sz="3200"/>
            </a:b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tep 2 Modifications to Theory 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dd dynamic equations for year-to-year forecasting and for comparative dynamic analysis of policy issu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quations linking periods via capital accumul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echanisms that recognise the sluggish responsiveness of factor marke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2F7-E4C6-4509-BA95-97D15C4C3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FROM MMR TO MMRF-GREEN:</a:t>
            </a:r>
            <a:br>
              <a:rPr sz="3200"/>
            </a:b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tep 2 Modifications to Theory 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dd equations th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ake account of inter-fuels substitution in electricity supply by sta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llow for the endogenous take-up of abatement capital expenditure in response to greenhouse policy meas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236-0639-4F57-88A0-B8FDC5CBDE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FROM MMR TO MMRF-GREEN:</a:t>
            </a:r>
            <a:br>
              <a:rPr sz="3200"/>
            </a:b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Step 3 Add Sub-state Disaggregation 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ops-down disaggregation to 56 sub-state regions (see Figure 1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ustries divided into two categor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ational industries sell widely throughout the sta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growth rates in each region equal state-wide growth ra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ocal industries sell mainly to customers in own reg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growth rates equal growth in local demand for produc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gives regional calculation a multiplier property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01A-A6F7-41AD-9B19-F0B3A5EDD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FORECASTING METHODOLOG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 inputs from expert macro and commodity forecast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ate/territory macro forecasts (ACCESS, state Treasurie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orecasts for international tourism (TFC, Acces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umptions for changes in technologies and tastes (CoP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ate/territory/sub-state forecasts for agricultural and mining exports, outputs and investment (ABARE, other)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B07-9BBD-4133-959A-DFA4BA3F53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entury Schoolbook"/>
              </a:rPr>
              <a:t>FORECASTING METHODOLOG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MRF-Green used to trace out implications of external forecasts for the prospects of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ational and regional industries, consumers and produ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ederal and state budge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greenhouse gas emissions by reg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gional labour market requirements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F83-DE3E-496C-A2C1-48585E8FCC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Monash University</cp:lastModifiedBy>
  <cp:lastPrinted>2000-12-02T19:40:17Z</cp:lastPrinted>
  <dcterms:modified xsi:type="dcterms:W3CDTF">2000-12-02T19:56:09Z</dcterms:modified>
  <cp:revision>519</cp:revision>
  <dc:subject/>
  <dc:title>ECONOMIC EFFECTS OF THE SUGAR TARIFF</dc:title>
</cp:coreProperties>
</file>